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17E3-3986-4C96-AE33-D9677FC9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B84A-C281-4608-A02A-E12DB72E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EEE9-40DD-4198-ACCE-B6CF7915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6739-14E4-44CD-8B45-FDA8CA0DC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03E4-695E-4A06-B889-1E790EA2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16DB-B6F7-4D54-84BD-BF17F63A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174E-2AB1-4068-851A-AD7C60CA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3B10-7B0C-41BE-8416-32C3A9A1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E473-F536-4847-AEC2-13ECAC5A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BC90-0CE3-4C5B-9C34-DC3D5C8A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8B20-6417-426C-9BC2-2A558F74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588E-5797-4A6C-88F9-2D9F10C5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512A-F6EA-4798-B981-77F64919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635A-37E6-4949-BDA6-7F542666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CC51-1B9D-4683-87F4-70BBDFC7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025A-A695-4777-B953-8F56E978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AC15-7EA3-4373-A2AB-7BD96F96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6E0D-6028-4898-AD34-1295C16D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3A62-913C-4692-9B4A-B6CC7B62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1FF7-E18B-4F53-985B-540CAE19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D2F4-A76D-4C03-A8FF-5819C27E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6B48-08FB-40B3-8501-6D4DC118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1C7C-A0AD-4594-B431-1B9D58E5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11AA-DAE9-4BE6-94B5-D8037E78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1B5A-0D1A-40BB-A890-0AED540C7B7C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4ECE-3104-4144-8779-AFDC77008246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8f8f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lasszone.com/cz/books/msmath_1_na/book_home.htm?state=MD" TargetMode="External"/><Relationship Id="rId2" Type="http://schemas.openxmlformats.org/officeDocument/2006/relationships/hyperlink" Target="http://www.classzone.com/cz/books/msmath_1_na/book_home.htm?state=MD" TargetMode="External"/><Relationship Id="rId3" Type="http://schemas.openxmlformats.org/officeDocument/2006/relationships/hyperlink" Target="http://pbskids.org/cyberchase/games/ballparkestimation/" TargetMode="External"/><Relationship Id="rId4" Type="http://schemas.openxmlformats.org/officeDocument/2006/relationships/hyperlink" Target="http://www.brainpop.com/math/geometryandmeasurement/estimating/" TargetMode="External"/><Relationship Id="rId5" Type="http://schemas.openxmlformats.org/officeDocument/2006/relationships/hyperlink" Target="http://www.brainpop.com/math/geometryandmeasurement/estimating/" TargetMode="Externa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ccff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33ccff"/>
                </a:solidFill>
                <a:latin typeface="Verdana"/>
              </a:rPr>
              <a:t>Warm-up:  Round the following decimals to the specified place value.</a:t>
            </a:r>
            <a:endParaRPr b="0" lang="en-US" sz="3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ff"/>
                </a:solidFill>
                <a:latin typeface="Verdana"/>
              </a:rPr>
              <a:t>Nearest tenth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1.) 8.913 </a:t>
            </a: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  2.) 2.84</a:t>
            </a: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3.) 0.872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ff"/>
                </a:solidFill>
                <a:latin typeface="Verdana"/>
              </a:rPr>
              <a:t>Nearest hundredth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4.) 5.824</a:t>
            </a: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  5.) 0.725</a:t>
            </a: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6.) 2.6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808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697280" y="2678040"/>
            <a:ext cx="928800" cy="179640"/>
          </a:xfrm>
          <a:custGeom>
            <a:avLst/>
            <a:gdLst/>
            <a:ahLst/>
            <a:rect l="l" t="t" r="r" b="b"/>
            <a:pathLst>
              <a:path w="2581" h="498">
                <a:moveTo>
                  <a:pt x="13047" y="7466"/>
                </a:moveTo>
                <a:cubicBezTo>
                  <a:pt x="13132" y="7509"/>
                  <a:pt x="13159" y="7551"/>
                  <a:pt x="13246" y="7590"/>
                </a:cubicBezTo>
                <a:cubicBezTo>
                  <a:pt x="13415" y="7665"/>
                  <a:pt x="13469" y="7565"/>
                  <a:pt x="13618" y="7565"/>
                </a:cubicBezTo>
                <a:cubicBezTo>
                  <a:pt x="13655" y="7565"/>
                  <a:pt x="13721" y="7610"/>
                  <a:pt x="13791" y="7615"/>
                </a:cubicBezTo>
                <a:cubicBezTo>
                  <a:pt x="13904" y="7624"/>
                  <a:pt x="13983" y="7609"/>
                  <a:pt x="14089" y="7640"/>
                </a:cubicBezTo>
                <a:cubicBezTo>
                  <a:pt x="14256" y="7688"/>
                  <a:pt x="14375" y="7756"/>
                  <a:pt x="14560" y="7739"/>
                </a:cubicBezTo>
                <a:cubicBezTo>
                  <a:pt x="14661" y="7730"/>
                  <a:pt x="14679" y="7682"/>
                  <a:pt x="14759" y="7714"/>
                </a:cubicBezTo>
                <a:cubicBezTo>
                  <a:pt x="14870" y="7758"/>
                  <a:pt x="15026" y="7697"/>
                  <a:pt x="15131" y="7640"/>
                </a:cubicBezTo>
                <a:cubicBezTo>
                  <a:pt x="15190" y="7608"/>
                  <a:pt x="15096" y="7648"/>
                  <a:pt x="15255" y="7665"/>
                </a:cubicBezTo>
                <a:cubicBezTo>
                  <a:pt x="15335" y="7673"/>
                  <a:pt x="15604" y="7632"/>
                  <a:pt x="15627" y="7640"/>
                </a:cubicBezTo>
                <a:cubicBezTo>
                  <a:pt x="15627" y="7648"/>
                  <a:pt x="15627" y="7657"/>
                  <a:pt x="15627" y="7665"/>
                </a:cubicBezTo>
              </a:path>
              <a:path w="2581" h="498">
                <a:moveTo>
                  <a:pt x="13221" y="7938"/>
                </a:moveTo>
                <a:cubicBezTo>
                  <a:pt x="13213" y="7938"/>
                  <a:pt x="13204" y="7938"/>
                  <a:pt x="13196" y="7938"/>
                </a:cubicBezTo>
                <a:cubicBezTo>
                  <a:pt x="13196" y="7867"/>
                  <a:pt x="13223" y="7888"/>
                  <a:pt x="13295" y="7838"/>
                </a:cubicBezTo>
                <a:cubicBezTo>
                  <a:pt x="13355" y="7796"/>
                  <a:pt x="13504" y="7683"/>
                  <a:pt x="13593" y="7739"/>
                </a:cubicBezTo>
                <a:cubicBezTo>
                  <a:pt x="13624" y="7758"/>
                  <a:pt x="13701" y="7851"/>
                  <a:pt x="13717" y="7888"/>
                </a:cubicBezTo>
                <a:cubicBezTo>
                  <a:pt x="13744" y="7949"/>
                  <a:pt x="13767" y="7790"/>
                  <a:pt x="13767" y="7789"/>
                </a:cubicBezTo>
                <a:cubicBezTo>
                  <a:pt x="13767" y="7781"/>
                  <a:pt x="13767" y="7772"/>
                  <a:pt x="13767" y="7764"/>
                </a:cubicBezTo>
                <a:cubicBezTo>
                  <a:pt x="13770" y="7799"/>
                  <a:pt x="13817" y="7947"/>
                  <a:pt x="13767" y="7938"/>
                </a:cubicBezTo>
                <a:cubicBezTo>
                  <a:pt x="13683" y="7917"/>
                  <a:pt x="13663" y="7916"/>
                  <a:pt x="13618" y="7888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52960" y="3286080"/>
            <a:ext cx="901800" cy="625680"/>
          </a:xfrm>
          <a:custGeom>
            <a:avLst/>
            <a:gdLst/>
            <a:ahLst/>
            <a:rect l="l" t="t" r="r" b="b"/>
            <a:pathLst>
              <a:path w="2506" h="1737">
                <a:moveTo>
                  <a:pt x="12824" y="9178"/>
                </a:moveTo>
                <a:cubicBezTo>
                  <a:pt x="12923" y="9135"/>
                  <a:pt x="13033" y="9173"/>
                  <a:pt x="13146" y="9178"/>
                </a:cubicBezTo>
                <a:cubicBezTo>
                  <a:pt x="13245" y="9183"/>
                  <a:pt x="12997" y="9178"/>
                  <a:pt x="12898" y="9178"/>
                </a:cubicBezTo>
                <a:cubicBezTo>
                  <a:pt x="12865" y="9178"/>
                  <a:pt x="12832" y="9178"/>
                  <a:pt x="12799" y="9178"/>
                </a:cubicBezTo>
                <a:cubicBezTo>
                  <a:pt x="12935" y="9178"/>
                  <a:pt x="13061" y="9176"/>
                  <a:pt x="13196" y="9153"/>
                </a:cubicBezTo>
                <a:cubicBezTo>
                  <a:pt x="13270" y="9134"/>
                  <a:pt x="13277" y="9126"/>
                  <a:pt x="13320" y="9128"/>
                </a:cubicBezTo>
                <a:cubicBezTo>
                  <a:pt x="13254" y="9138"/>
                  <a:pt x="13073" y="9195"/>
                  <a:pt x="13022" y="9178"/>
                </a:cubicBezTo>
                <a:cubicBezTo>
                  <a:pt x="12972" y="9161"/>
                  <a:pt x="13118" y="9153"/>
                  <a:pt x="13171" y="9153"/>
                </a:cubicBezTo>
              </a:path>
              <a:path w="2506" h="1737">
                <a:moveTo>
                  <a:pt x="11782" y="9599"/>
                </a:moveTo>
                <a:cubicBezTo>
                  <a:pt x="11709" y="9648"/>
                  <a:pt x="11848" y="9540"/>
                  <a:pt x="11906" y="9550"/>
                </a:cubicBezTo>
                <a:cubicBezTo>
                  <a:pt x="12170" y="9596"/>
                  <a:pt x="11976" y="9980"/>
                  <a:pt x="11857" y="10071"/>
                </a:cubicBezTo>
                <a:cubicBezTo>
                  <a:pt x="11753" y="10151"/>
                  <a:pt x="11643" y="10167"/>
                  <a:pt x="11534" y="10145"/>
                </a:cubicBezTo>
                <a:cubicBezTo>
                  <a:pt x="11544" y="10021"/>
                  <a:pt x="11595" y="9951"/>
                  <a:pt x="11757" y="9971"/>
                </a:cubicBezTo>
                <a:cubicBezTo>
                  <a:pt x="11889" y="9988"/>
                  <a:pt x="12017" y="10057"/>
                  <a:pt x="12030" y="10195"/>
                </a:cubicBezTo>
                <a:cubicBezTo>
                  <a:pt x="12030" y="10203"/>
                  <a:pt x="12030" y="10212"/>
                  <a:pt x="12030" y="10220"/>
                </a:cubicBezTo>
              </a:path>
              <a:path w="2506" h="1737">
                <a:moveTo>
                  <a:pt x="12402" y="10046"/>
                </a:moveTo>
                <a:cubicBezTo>
                  <a:pt x="12402" y="10071"/>
                  <a:pt x="12402" y="10079"/>
                  <a:pt x="12402" y="10096"/>
                </a:cubicBezTo>
                <a:cubicBezTo>
                  <a:pt x="12465" y="10069"/>
                  <a:pt x="12477" y="10083"/>
                  <a:pt x="12477" y="10021"/>
                </a:cubicBezTo>
              </a:path>
              <a:path w="2506" h="1737">
                <a:moveTo>
                  <a:pt x="13221" y="9575"/>
                </a:moveTo>
                <a:cubicBezTo>
                  <a:pt x="13096" y="9528"/>
                  <a:pt x="13008" y="9555"/>
                  <a:pt x="12898" y="9624"/>
                </a:cubicBezTo>
                <a:cubicBezTo>
                  <a:pt x="13015" y="9702"/>
                  <a:pt x="13278" y="9765"/>
                  <a:pt x="13320" y="9922"/>
                </a:cubicBezTo>
                <a:cubicBezTo>
                  <a:pt x="13312" y="9963"/>
                  <a:pt x="13303" y="10005"/>
                  <a:pt x="13295" y="10046"/>
                </a:cubicBezTo>
                <a:cubicBezTo>
                  <a:pt x="13176" y="10069"/>
                  <a:pt x="13006" y="10119"/>
                  <a:pt x="13047" y="9922"/>
                </a:cubicBezTo>
                <a:cubicBezTo>
                  <a:pt x="13079" y="9768"/>
                  <a:pt x="13212" y="9752"/>
                  <a:pt x="13271" y="9624"/>
                </a:cubicBezTo>
                <a:cubicBezTo>
                  <a:pt x="13271" y="9616"/>
                  <a:pt x="13271" y="9607"/>
                  <a:pt x="13271" y="9599"/>
                </a:cubicBezTo>
              </a:path>
              <a:path w="2506" h="1737">
                <a:moveTo>
                  <a:pt x="13915" y="9525"/>
                </a:moveTo>
                <a:cubicBezTo>
                  <a:pt x="13828" y="9437"/>
                  <a:pt x="13701" y="9629"/>
                  <a:pt x="13667" y="9723"/>
                </a:cubicBezTo>
                <a:cubicBezTo>
                  <a:pt x="13646" y="9856"/>
                  <a:pt x="13634" y="9890"/>
                  <a:pt x="13667" y="9971"/>
                </a:cubicBezTo>
                <a:cubicBezTo>
                  <a:pt x="13818" y="10025"/>
                  <a:pt x="13984" y="10001"/>
                  <a:pt x="14039" y="9798"/>
                </a:cubicBezTo>
                <a:cubicBezTo>
                  <a:pt x="14090" y="9608"/>
                  <a:pt x="13962" y="9546"/>
                  <a:pt x="13816" y="9575"/>
                </a:cubicBezTo>
              </a:path>
              <a:path w="2506" h="1737">
                <a:moveTo>
                  <a:pt x="12650" y="10368"/>
                </a:moveTo>
                <a:cubicBezTo>
                  <a:pt x="12634" y="10376"/>
                  <a:pt x="12617" y="10385"/>
                  <a:pt x="12601" y="10393"/>
                </a:cubicBezTo>
                <a:cubicBezTo>
                  <a:pt x="12608" y="10350"/>
                  <a:pt x="12668" y="10216"/>
                  <a:pt x="12750" y="10269"/>
                </a:cubicBezTo>
                <a:cubicBezTo>
                  <a:pt x="12996" y="10430"/>
                  <a:pt x="12701" y="10735"/>
                  <a:pt x="12551" y="10815"/>
                </a:cubicBezTo>
                <a:cubicBezTo>
                  <a:pt x="12411" y="10889"/>
                  <a:pt x="12347" y="10892"/>
                  <a:pt x="12303" y="10790"/>
                </a:cubicBezTo>
                <a:cubicBezTo>
                  <a:pt x="12371" y="10664"/>
                  <a:pt x="12538" y="10567"/>
                  <a:pt x="12700" y="10691"/>
                </a:cubicBezTo>
                <a:cubicBezTo>
                  <a:pt x="12727" y="10772"/>
                  <a:pt x="12736" y="10803"/>
                  <a:pt x="12725" y="10864"/>
                </a:cubicBezTo>
              </a:path>
              <a:path w="2506" h="1737">
                <a:moveTo>
                  <a:pt x="13072" y="10691"/>
                </a:moveTo>
                <a:cubicBezTo>
                  <a:pt x="13158" y="10707"/>
                  <a:pt x="13145" y="10706"/>
                  <a:pt x="13221" y="10691"/>
                </a:cubicBezTo>
                <a:cubicBezTo>
                  <a:pt x="13188" y="10658"/>
                  <a:pt x="13171" y="10641"/>
                  <a:pt x="13146" y="10616"/>
                </a:cubicBezTo>
              </a:path>
              <a:path w="2506" h="1737">
                <a:moveTo>
                  <a:pt x="13667" y="10294"/>
                </a:moveTo>
                <a:cubicBezTo>
                  <a:pt x="13569" y="10357"/>
                  <a:pt x="13550" y="10368"/>
                  <a:pt x="13494" y="10468"/>
                </a:cubicBezTo>
                <a:cubicBezTo>
                  <a:pt x="13620" y="10567"/>
                  <a:pt x="13754" y="10610"/>
                  <a:pt x="13841" y="10740"/>
                </a:cubicBezTo>
                <a:cubicBezTo>
                  <a:pt x="13781" y="10776"/>
                  <a:pt x="13472" y="10907"/>
                  <a:pt x="13568" y="10716"/>
                </a:cubicBezTo>
                <a:cubicBezTo>
                  <a:pt x="13649" y="10555"/>
                  <a:pt x="13804" y="10516"/>
                  <a:pt x="13717" y="1034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00760" y="4375080"/>
            <a:ext cx="233280" cy="98640"/>
          </a:xfrm>
          <a:custGeom>
            <a:avLst/>
            <a:gdLst/>
            <a:ahLst/>
            <a:rect l="l" t="t" r="r" b="b"/>
            <a:pathLst>
              <a:path w="646" h="274">
                <a:moveTo>
                  <a:pt x="13891" y="12402"/>
                </a:moveTo>
                <a:cubicBezTo>
                  <a:pt x="13891" y="12470"/>
                  <a:pt x="13891" y="12317"/>
                  <a:pt x="13891" y="12303"/>
                </a:cubicBezTo>
                <a:cubicBezTo>
                  <a:pt x="13891" y="12284"/>
                  <a:pt x="13942" y="12220"/>
                  <a:pt x="13965" y="12204"/>
                </a:cubicBezTo>
                <a:cubicBezTo>
                  <a:pt x="14010" y="12173"/>
                  <a:pt x="14088" y="12157"/>
                  <a:pt x="14139" y="12154"/>
                </a:cubicBezTo>
                <a:cubicBezTo>
                  <a:pt x="14206" y="12150"/>
                  <a:pt x="14279" y="12143"/>
                  <a:pt x="14337" y="12179"/>
                </a:cubicBezTo>
                <a:cubicBezTo>
                  <a:pt x="14365" y="12196"/>
                  <a:pt x="14430" y="12242"/>
                  <a:pt x="14436" y="12254"/>
                </a:cubicBezTo>
                <a:cubicBezTo>
                  <a:pt x="14439" y="12260"/>
                  <a:pt x="14456" y="12324"/>
                  <a:pt x="14461" y="12328"/>
                </a:cubicBezTo>
                <a:cubicBezTo>
                  <a:pt x="14484" y="12346"/>
                  <a:pt x="14500" y="12370"/>
                  <a:pt x="14511" y="12328"/>
                </a:cubicBezTo>
                <a:cubicBezTo>
                  <a:pt x="14532" y="12246"/>
                  <a:pt x="14540" y="12230"/>
                  <a:pt x="14536" y="12179"/>
                </a:cubicBezTo>
                <a:cubicBezTo>
                  <a:pt x="14536" y="12133"/>
                  <a:pt x="14495" y="12315"/>
                  <a:pt x="14486" y="12353"/>
                </a:cubicBezTo>
                <a:cubicBezTo>
                  <a:pt x="14486" y="12361"/>
                  <a:pt x="14486" y="12370"/>
                  <a:pt x="14486" y="12378"/>
                </a:cubicBezTo>
                <a:cubicBezTo>
                  <a:pt x="14425" y="12366"/>
                  <a:pt x="14379" y="12353"/>
                  <a:pt x="14312" y="12353"/>
                </a:cubicBezTo>
                <a:cubicBezTo>
                  <a:pt x="14231" y="12353"/>
                  <a:pt x="14289" y="12353"/>
                  <a:pt x="14337" y="12353"/>
                </a:cubicBezTo>
                <a:cubicBezTo>
                  <a:pt x="14379" y="12353"/>
                  <a:pt x="14387" y="12353"/>
                  <a:pt x="14412" y="12353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9080" y="4894200"/>
            <a:ext cx="955800" cy="598680"/>
          </a:xfrm>
          <a:custGeom>
            <a:avLst/>
            <a:gdLst/>
            <a:ahLst/>
            <a:rect l="l" t="t" r="r" b="b"/>
            <a:pathLst>
              <a:path w="2655" h="1663">
                <a:moveTo>
                  <a:pt x="13469" y="13618"/>
                </a:moveTo>
                <a:cubicBezTo>
                  <a:pt x="13444" y="13618"/>
                  <a:pt x="13436" y="13618"/>
                  <a:pt x="13419" y="13618"/>
                </a:cubicBezTo>
                <a:cubicBezTo>
                  <a:pt x="13432" y="13580"/>
                  <a:pt x="13449" y="13593"/>
                  <a:pt x="13494" y="13593"/>
                </a:cubicBezTo>
                <a:cubicBezTo>
                  <a:pt x="13589" y="13593"/>
                  <a:pt x="14093" y="13554"/>
                  <a:pt x="14114" y="13618"/>
                </a:cubicBezTo>
              </a:path>
              <a:path w="2655" h="1663">
                <a:moveTo>
                  <a:pt x="12551" y="14312"/>
                </a:moveTo>
                <a:cubicBezTo>
                  <a:pt x="12459" y="14312"/>
                  <a:pt x="12394" y="14379"/>
                  <a:pt x="12353" y="14461"/>
                </a:cubicBezTo>
                <a:cubicBezTo>
                  <a:pt x="12267" y="14633"/>
                  <a:pt x="12249" y="15028"/>
                  <a:pt x="12328" y="15205"/>
                </a:cubicBezTo>
                <a:cubicBezTo>
                  <a:pt x="12353" y="15222"/>
                  <a:pt x="12377" y="15238"/>
                  <a:pt x="12402" y="15255"/>
                </a:cubicBezTo>
                <a:cubicBezTo>
                  <a:pt x="12574" y="15092"/>
                  <a:pt x="12782" y="14905"/>
                  <a:pt x="12675" y="14635"/>
                </a:cubicBezTo>
                <a:cubicBezTo>
                  <a:pt x="12663" y="14605"/>
                  <a:pt x="12417" y="14386"/>
                  <a:pt x="12427" y="14461"/>
                </a:cubicBezTo>
                <a:cubicBezTo>
                  <a:pt x="12435" y="14494"/>
                  <a:pt x="12444" y="14527"/>
                  <a:pt x="12452" y="14560"/>
                </a:cubicBezTo>
              </a:path>
              <a:path w="2655" h="1663">
                <a:moveTo>
                  <a:pt x="13171" y="14387"/>
                </a:moveTo>
                <a:cubicBezTo>
                  <a:pt x="13293" y="14399"/>
                  <a:pt x="13422" y="14444"/>
                  <a:pt x="13543" y="14387"/>
                </a:cubicBezTo>
                <a:cubicBezTo>
                  <a:pt x="13543" y="14362"/>
                  <a:pt x="13543" y="14354"/>
                  <a:pt x="13543" y="14337"/>
                </a:cubicBezTo>
                <a:cubicBezTo>
                  <a:pt x="13543" y="14547"/>
                  <a:pt x="13531" y="14751"/>
                  <a:pt x="13543" y="14957"/>
                </a:cubicBezTo>
                <a:cubicBezTo>
                  <a:pt x="13543" y="14999"/>
                  <a:pt x="13543" y="15024"/>
                  <a:pt x="13543" y="14982"/>
                </a:cubicBezTo>
              </a:path>
              <a:path w="2655" h="1663">
                <a:moveTo>
                  <a:pt x="13841" y="14263"/>
                </a:moveTo>
                <a:cubicBezTo>
                  <a:pt x="13857" y="14197"/>
                  <a:pt x="14005" y="14144"/>
                  <a:pt x="14064" y="14188"/>
                </a:cubicBezTo>
                <a:cubicBezTo>
                  <a:pt x="14214" y="14298"/>
                  <a:pt x="14039" y="14479"/>
                  <a:pt x="13965" y="14560"/>
                </a:cubicBezTo>
                <a:cubicBezTo>
                  <a:pt x="14033" y="14527"/>
                  <a:pt x="14147" y="14497"/>
                  <a:pt x="14188" y="14585"/>
                </a:cubicBezTo>
                <a:cubicBezTo>
                  <a:pt x="14279" y="14780"/>
                  <a:pt x="14078" y="14918"/>
                  <a:pt x="13915" y="14957"/>
                </a:cubicBezTo>
                <a:cubicBezTo>
                  <a:pt x="13841" y="14957"/>
                  <a:pt x="13808" y="14982"/>
                  <a:pt x="13816" y="14932"/>
                </a:cubicBezTo>
              </a:path>
              <a:path w="2655" h="1663">
                <a:moveTo>
                  <a:pt x="14684" y="14238"/>
                </a:moveTo>
                <a:cubicBezTo>
                  <a:pt x="14596" y="14289"/>
                  <a:pt x="14585" y="14303"/>
                  <a:pt x="14560" y="14412"/>
                </a:cubicBezTo>
                <a:cubicBezTo>
                  <a:pt x="14521" y="14581"/>
                  <a:pt x="14529" y="14728"/>
                  <a:pt x="14610" y="14883"/>
                </a:cubicBezTo>
                <a:cubicBezTo>
                  <a:pt x="14690" y="15037"/>
                  <a:pt x="14808" y="14930"/>
                  <a:pt x="14883" y="14833"/>
                </a:cubicBezTo>
                <a:cubicBezTo>
                  <a:pt x="14972" y="14717"/>
                  <a:pt x="14983" y="14546"/>
                  <a:pt x="14932" y="14412"/>
                </a:cubicBezTo>
                <a:cubicBezTo>
                  <a:pt x="14912" y="14358"/>
                  <a:pt x="14800" y="14186"/>
                  <a:pt x="14709" y="14238"/>
                </a:cubicBezTo>
                <a:cubicBezTo>
                  <a:pt x="14693" y="14255"/>
                  <a:pt x="14676" y="14271"/>
                  <a:pt x="14660" y="14288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0" y="4894200"/>
            <a:ext cx="214200" cy="34920"/>
          </a:xfrm>
          <a:custGeom>
            <a:avLst/>
            <a:gdLst/>
            <a:ahLst/>
            <a:rect l="l" t="t" r="r" b="b"/>
            <a:pathLst>
              <a:path w="596" h="100">
                <a:moveTo>
                  <a:pt x="6350" y="13618"/>
                </a:moveTo>
                <a:cubicBezTo>
                  <a:pt x="6448" y="13618"/>
                  <a:pt x="6531" y="13614"/>
                  <a:pt x="6623" y="13593"/>
                </a:cubicBezTo>
                <a:cubicBezTo>
                  <a:pt x="6695" y="13576"/>
                  <a:pt x="6764" y="13599"/>
                  <a:pt x="6821" y="13618"/>
                </a:cubicBezTo>
                <a:cubicBezTo>
                  <a:pt x="6854" y="13629"/>
                  <a:pt x="6910" y="13618"/>
                  <a:pt x="6945" y="13618"/>
                </a:cubicBezTo>
              </a:path>
              <a:path w="596" h="100">
                <a:moveTo>
                  <a:pt x="6449" y="13692"/>
                </a:moveTo>
                <a:cubicBezTo>
                  <a:pt x="6482" y="13692"/>
                  <a:pt x="6515" y="13692"/>
                  <a:pt x="6548" y="13692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05000" y="57690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127" y="16024"/>
                </a:moveTo>
                <a:lnTo>
                  <a:pt x="6127" y="16024"/>
                </a:ln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60720" y="2724120"/>
            <a:ext cx="223560" cy="115920"/>
          </a:xfrm>
          <a:custGeom>
            <a:avLst/>
            <a:gdLst/>
            <a:ahLst/>
            <a:rect l="l" t="t" r="r" b="b"/>
            <a:pathLst>
              <a:path w="621" h="324">
                <a:moveTo>
                  <a:pt x="6003" y="7863"/>
                </a:moveTo>
                <a:cubicBezTo>
                  <a:pt x="6003" y="7778"/>
                  <a:pt x="6015" y="7759"/>
                  <a:pt x="6052" y="7689"/>
                </a:cubicBezTo>
                <a:cubicBezTo>
                  <a:pt x="6083" y="7630"/>
                  <a:pt x="6106" y="7597"/>
                  <a:pt x="6176" y="7590"/>
                </a:cubicBezTo>
                <a:cubicBezTo>
                  <a:pt x="6221" y="7585"/>
                  <a:pt x="6246" y="7565"/>
                  <a:pt x="6300" y="7565"/>
                </a:cubicBezTo>
                <a:cubicBezTo>
                  <a:pt x="6356" y="7565"/>
                  <a:pt x="6369" y="7594"/>
                  <a:pt x="6400" y="7615"/>
                </a:cubicBezTo>
                <a:cubicBezTo>
                  <a:pt x="6460" y="7656"/>
                  <a:pt x="6470" y="7711"/>
                  <a:pt x="6474" y="7789"/>
                </a:cubicBezTo>
                <a:cubicBezTo>
                  <a:pt x="6476" y="7822"/>
                  <a:pt x="6474" y="7855"/>
                  <a:pt x="6474" y="7888"/>
                </a:cubicBezTo>
                <a:cubicBezTo>
                  <a:pt x="6455" y="7869"/>
                  <a:pt x="6406" y="7816"/>
                  <a:pt x="6400" y="7813"/>
                </a:cubicBezTo>
                <a:cubicBezTo>
                  <a:pt x="6392" y="7813"/>
                  <a:pt x="6383" y="7813"/>
                  <a:pt x="6375" y="7813"/>
                </a:cubicBezTo>
                <a:cubicBezTo>
                  <a:pt x="6435" y="7828"/>
                  <a:pt x="6402" y="7864"/>
                  <a:pt x="6449" y="7888"/>
                </a:cubicBezTo>
                <a:cubicBezTo>
                  <a:pt x="6481" y="7904"/>
                  <a:pt x="6557" y="7858"/>
                  <a:pt x="6573" y="7838"/>
                </a:cubicBezTo>
                <a:cubicBezTo>
                  <a:pt x="6595" y="7809"/>
                  <a:pt x="6576" y="7800"/>
                  <a:pt x="6623" y="7789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97040" y="3295800"/>
            <a:ext cx="901800" cy="741240"/>
          </a:xfrm>
          <a:custGeom>
            <a:avLst/>
            <a:gdLst/>
            <a:ahLst/>
            <a:rect l="l" t="t" r="r" b="b"/>
            <a:pathLst>
              <a:path w="2506" h="2060">
                <a:moveTo>
                  <a:pt x="5482" y="9153"/>
                </a:moveTo>
                <a:cubicBezTo>
                  <a:pt x="5567" y="9153"/>
                  <a:pt x="5641" y="9176"/>
                  <a:pt x="5730" y="9178"/>
                </a:cubicBezTo>
                <a:cubicBezTo>
                  <a:pt x="5826" y="9181"/>
                  <a:pt x="5907" y="9203"/>
                  <a:pt x="6003" y="9203"/>
                </a:cubicBezTo>
                <a:cubicBezTo>
                  <a:pt x="6070" y="9203"/>
                  <a:pt x="5921" y="9183"/>
                  <a:pt x="5854" y="9178"/>
                </a:cubicBezTo>
                <a:cubicBezTo>
                  <a:pt x="5788" y="9173"/>
                  <a:pt x="5639" y="9178"/>
                  <a:pt x="5705" y="9178"/>
                </a:cubicBezTo>
                <a:cubicBezTo>
                  <a:pt x="5799" y="9218"/>
                  <a:pt x="5918" y="9203"/>
                  <a:pt x="6028" y="9203"/>
                </a:cubicBezTo>
                <a:cubicBezTo>
                  <a:pt x="6036" y="9203"/>
                  <a:pt x="6044" y="9203"/>
                  <a:pt x="6052" y="9203"/>
                </a:cubicBezTo>
                <a:cubicBezTo>
                  <a:pt x="6127" y="9203"/>
                  <a:pt x="5881" y="9203"/>
                  <a:pt x="5879" y="9203"/>
                </a:cubicBezTo>
                <a:cubicBezTo>
                  <a:pt x="5873" y="9202"/>
                  <a:pt x="5688" y="9178"/>
                  <a:pt x="5755" y="9178"/>
                </a:cubicBezTo>
                <a:cubicBezTo>
                  <a:pt x="5866" y="9178"/>
                  <a:pt x="5967" y="9160"/>
                  <a:pt x="6077" y="9153"/>
                </a:cubicBezTo>
                <a:cubicBezTo>
                  <a:pt x="6110" y="9153"/>
                  <a:pt x="6110" y="9153"/>
                  <a:pt x="6052" y="9153"/>
                </a:cubicBezTo>
                <a:cubicBezTo>
                  <a:pt x="5927" y="9165"/>
                  <a:pt x="5806" y="9196"/>
                  <a:pt x="5680" y="9203"/>
                </a:cubicBezTo>
                <a:cubicBezTo>
                  <a:pt x="5600" y="9207"/>
                  <a:pt x="5952" y="9153"/>
                  <a:pt x="5953" y="9153"/>
                </a:cubicBezTo>
                <a:cubicBezTo>
                  <a:pt x="6009" y="9147"/>
                  <a:pt x="6070" y="9153"/>
                  <a:pt x="6127" y="9153"/>
                </a:cubicBezTo>
              </a:path>
              <a:path w="2506" h="2060">
                <a:moveTo>
                  <a:pt x="5854" y="9748"/>
                </a:moveTo>
                <a:cubicBezTo>
                  <a:pt x="5846" y="9756"/>
                  <a:pt x="5837" y="9765"/>
                  <a:pt x="5829" y="9773"/>
                </a:cubicBezTo>
                <a:cubicBezTo>
                  <a:pt x="5829" y="9721"/>
                  <a:pt x="5817" y="9691"/>
                  <a:pt x="5804" y="9649"/>
                </a:cubicBezTo>
                <a:cubicBezTo>
                  <a:pt x="5794" y="9615"/>
                  <a:pt x="5755" y="9569"/>
                  <a:pt x="5705" y="9575"/>
                </a:cubicBezTo>
                <a:cubicBezTo>
                  <a:pt x="5663" y="9580"/>
                  <a:pt x="5604" y="9613"/>
                  <a:pt x="5581" y="9649"/>
                </a:cubicBezTo>
                <a:cubicBezTo>
                  <a:pt x="5542" y="9710"/>
                  <a:pt x="5512" y="9776"/>
                  <a:pt x="5507" y="9847"/>
                </a:cubicBezTo>
                <a:cubicBezTo>
                  <a:pt x="5503" y="9902"/>
                  <a:pt x="5496" y="9925"/>
                  <a:pt x="5556" y="9947"/>
                </a:cubicBezTo>
                <a:cubicBezTo>
                  <a:pt x="5629" y="9974"/>
                  <a:pt x="5635" y="9964"/>
                  <a:pt x="5705" y="9947"/>
                </a:cubicBezTo>
                <a:cubicBezTo>
                  <a:pt x="5744" y="9938"/>
                  <a:pt x="5802" y="9901"/>
                  <a:pt x="5829" y="9847"/>
                </a:cubicBezTo>
                <a:cubicBezTo>
                  <a:pt x="5840" y="9825"/>
                  <a:pt x="5851" y="9779"/>
                  <a:pt x="5854" y="9773"/>
                </a:cubicBezTo>
                <a:cubicBezTo>
                  <a:pt x="5865" y="9751"/>
                  <a:pt x="5836" y="9744"/>
                  <a:pt x="5829" y="9723"/>
                </a:cubicBezTo>
                <a:cubicBezTo>
                  <a:pt x="5847" y="9778"/>
                  <a:pt x="5829" y="9849"/>
                  <a:pt x="5829" y="9922"/>
                </a:cubicBezTo>
                <a:cubicBezTo>
                  <a:pt x="5829" y="10005"/>
                  <a:pt x="5829" y="10087"/>
                  <a:pt x="5829" y="10170"/>
                </a:cubicBezTo>
              </a:path>
              <a:path w="2506" h="2060">
                <a:moveTo>
                  <a:pt x="6350" y="9674"/>
                </a:moveTo>
                <a:cubicBezTo>
                  <a:pt x="6260" y="9709"/>
                  <a:pt x="6197" y="9824"/>
                  <a:pt x="6176" y="9922"/>
                </a:cubicBezTo>
                <a:cubicBezTo>
                  <a:pt x="6145" y="10070"/>
                  <a:pt x="6227" y="10161"/>
                  <a:pt x="6375" y="10120"/>
                </a:cubicBezTo>
                <a:cubicBezTo>
                  <a:pt x="6504" y="10085"/>
                  <a:pt x="6586" y="9978"/>
                  <a:pt x="6573" y="9847"/>
                </a:cubicBezTo>
                <a:cubicBezTo>
                  <a:pt x="6558" y="9702"/>
                  <a:pt x="6451" y="9787"/>
                  <a:pt x="6375" y="9723"/>
                </a:cubicBezTo>
                <a:cubicBezTo>
                  <a:pt x="6375" y="9699"/>
                  <a:pt x="6375" y="9691"/>
                  <a:pt x="6400" y="9699"/>
                </a:cubicBezTo>
              </a:path>
              <a:path w="2506" h="2060">
                <a:moveTo>
                  <a:pt x="6970" y="9699"/>
                </a:moveTo>
                <a:cubicBezTo>
                  <a:pt x="6943" y="9646"/>
                  <a:pt x="6861" y="9833"/>
                  <a:pt x="6846" y="9872"/>
                </a:cubicBezTo>
                <a:cubicBezTo>
                  <a:pt x="6819" y="9944"/>
                  <a:pt x="6821" y="9998"/>
                  <a:pt x="6821" y="10071"/>
                </a:cubicBezTo>
                <a:cubicBezTo>
                  <a:pt x="6943" y="10108"/>
                  <a:pt x="7012" y="10097"/>
                  <a:pt x="7119" y="10021"/>
                </a:cubicBezTo>
                <a:cubicBezTo>
                  <a:pt x="7168" y="9986"/>
                  <a:pt x="7227" y="9882"/>
                  <a:pt x="7218" y="9823"/>
                </a:cubicBezTo>
                <a:cubicBezTo>
                  <a:pt x="7204" y="9738"/>
                  <a:pt x="7110" y="9679"/>
                  <a:pt x="7045" y="9649"/>
                </a:cubicBezTo>
                <a:cubicBezTo>
                  <a:pt x="7020" y="9649"/>
                  <a:pt x="7012" y="9649"/>
                  <a:pt x="7020" y="9674"/>
                </a:cubicBezTo>
              </a:path>
              <a:path w="2506" h="2060">
                <a:moveTo>
                  <a:pt x="5308" y="10145"/>
                </a:moveTo>
                <a:cubicBezTo>
                  <a:pt x="5308" y="10170"/>
                  <a:pt x="5308" y="10178"/>
                  <a:pt x="5308" y="10195"/>
                </a:cubicBezTo>
              </a:path>
              <a:path w="2506" h="2060">
                <a:moveTo>
                  <a:pt x="5110" y="9575"/>
                </a:moveTo>
                <a:cubicBezTo>
                  <a:pt x="5092" y="9520"/>
                  <a:pt x="4935" y="9574"/>
                  <a:pt x="4887" y="9599"/>
                </a:cubicBezTo>
                <a:cubicBezTo>
                  <a:pt x="4747" y="9673"/>
                  <a:pt x="4721" y="9739"/>
                  <a:pt x="4837" y="9847"/>
                </a:cubicBezTo>
                <a:cubicBezTo>
                  <a:pt x="4921" y="9925"/>
                  <a:pt x="5080" y="9983"/>
                  <a:pt x="4986" y="10120"/>
                </a:cubicBezTo>
                <a:cubicBezTo>
                  <a:pt x="4942" y="10183"/>
                  <a:pt x="4822" y="10237"/>
                  <a:pt x="4762" y="10170"/>
                </a:cubicBezTo>
                <a:cubicBezTo>
                  <a:pt x="4720" y="10107"/>
                  <a:pt x="4704" y="10095"/>
                  <a:pt x="4713" y="10046"/>
                </a:cubicBezTo>
                <a:cubicBezTo>
                  <a:pt x="4797" y="9980"/>
                  <a:pt x="4893" y="9934"/>
                  <a:pt x="4986" y="9872"/>
                </a:cubicBezTo>
                <a:cubicBezTo>
                  <a:pt x="5075" y="9813"/>
                  <a:pt x="5107" y="9788"/>
                  <a:pt x="5085" y="9674"/>
                </a:cubicBezTo>
                <a:cubicBezTo>
                  <a:pt x="5075" y="9624"/>
                  <a:pt x="5032" y="9557"/>
                  <a:pt x="5011" y="9599"/>
                </a:cubicBezTo>
              </a:path>
              <a:path w="2506" h="2060">
                <a:moveTo>
                  <a:pt x="5978" y="10616"/>
                </a:moveTo>
                <a:cubicBezTo>
                  <a:pt x="6035" y="10598"/>
                  <a:pt x="5953" y="10554"/>
                  <a:pt x="5904" y="10542"/>
                </a:cubicBezTo>
                <a:cubicBezTo>
                  <a:pt x="5808" y="10519"/>
                  <a:pt x="5733" y="10575"/>
                  <a:pt x="5655" y="10616"/>
                </a:cubicBezTo>
                <a:cubicBezTo>
                  <a:pt x="5604" y="10740"/>
                  <a:pt x="5716" y="10760"/>
                  <a:pt x="5804" y="10840"/>
                </a:cubicBezTo>
                <a:cubicBezTo>
                  <a:pt x="5887" y="10915"/>
                  <a:pt x="6016" y="11020"/>
                  <a:pt x="5928" y="11137"/>
                </a:cubicBezTo>
                <a:cubicBezTo>
                  <a:pt x="5822" y="11278"/>
                  <a:pt x="5752" y="11144"/>
                  <a:pt x="5705" y="11063"/>
                </a:cubicBezTo>
                <a:cubicBezTo>
                  <a:pt x="5650" y="10967"/>
                  <a:pt x="5784" y="10930"/>
                  <a:pt x="5854" y="10889"/>
                </a:cubicBezTo>
                <a:cubicBezTo>
                  <a:pt x="5886" y="10870"/>
                  <a:pt x="6010" y="10789"/>
                  <a:pt x="6003" y="10740"/>
                </a:cubicBezTo>
                <a:cubicBezTo>
                  <a:pt x="5996" y="10694"/>
                  <a:pt x="5980" y="10675"/>
                  <a:pt x="5953" y="10666"/>
                </a:cubicBezTo>
              </a:path>
              <a:path w="2506" h="2060">
                <a:moveTo>
                  <a:pt x="6176" y="11013"/>
                </a:moveTo>
                <a:cubicBezTo>
                  <a:pt x="6176" y="11055"/>
                  <a:pt x="6176" y="11063"/>
                  <a:pt x="6176" y="11088"/>
                </a:cubicBezTo>
              </a:path>
              <a:path w="2506" h="2060">
                <a:moveTo>
                  <a:pt x="6672" y="10840"/>
                </a:moveTo>
                <a:cubicBezTo>
                  <a:pt x="6724" y="10814"/>
                  <a:pt x="6746" y="10733"/>
                  <a:pt x="6722" y="10666"/>
                </a:cubicBezTo>
                <a:cubicBezTo>
                  <a:pt x="6706" y="10622"/>
                  <a:pt x="6638" y="10577"/>
                  <a:pt x="6598" y="10567"/>
                </a:cubicBezTo>
                <a:cubicBezTo>
                  <a:pt x="6491" y="10647"/>
                  <a:pt x="6462" y="10709"/>
                  <a:pt x="6449" y="10840"/>
                </a:cubicBezTo>
                <a:cubicBezTo>
                  <a:pt x="6449" y="10848"/>
                  <a:pt x="6449" y="10856"/>
                  <a:pt x="6449" y="10864"/>
                </a:cubicBezTo>
                <a:cubicBezTo>
                  <a:pt x="6537" y="10893"/>
                  <a:pt x="6611" y="10907"/>
                  <a:pt x="6672" y="10815"/>
                </a:cubicBezTo>
                <a:cubicBezTo>
                  <a:pt x="6709" y="10742"/>
                  <a:pt x="6726" y="10737"/>
                  <a:pt x="6722" y="10691"/>
                </a:cubicBezTo>
                <a:cubicBezTo>
                  <a:pt x="6722" y="10791"/>
                  <a:pt x="6699" y="10885"/>
                  <a:pt x="6697" y="10988"/>
                </a:cubicBezTo>
                <a:cubicBezTo>
                  <a:pt x="6695" y="11063"/>
                  <a:pt x="6697" y="11137"/>
                  <a:pt x="6697" y="11212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94000" y="4348080"/>
            <a:ext cx="231840" cy="117720"/>
          </a:xfrm>
          <a:custGeom>
            <a:avLst/>
            <a:gdLst/>
            <a:ahLst/>
            <a:rect l="l" t="t" r="r" b="b"/>
            <a:pathLst>
              <a:path w="646" h="323">
                <a:moveTo>
                  <a:pt x="6648" y="12353"/>
                </a:moveTo>
                <a:cubicBezTo>
                  <a:pt x="6648" y="12298"/>
                  <a:pt x="6665" y="12251"/>
                  <a:pt x="6697" y="12204"/>
                </a:cubicBezTo>
                <a:cubicBezTo>
                  <a:pt x="6729" y="12158"/>
                  <a:pt x="6792" y="12095"/>
                  <a:pt x="6846" y="12080"/>
                </a:cubicBezTo>
                <a:cubicBezTo>
                  <a:pt x="6880" y="12071"/>
                  <a:pt x="6998" y="12085"/>
                  <a:pt x="7020" y="12105"/>
                </a:cubicBezTo>
                <a:cubicBezTo>
                  <a:pt x="7059" y="12140"/>
                  <a:pt x="7116" y="12197"/>
                  <a:pt x="7144" y="12229"/>
                </a:cubicBezTo>
                <a:cubicBezTo>
                  <a:pt x="7189" y="12280"/>
                  <a:pt x="7236" y="12314"/>
                  <a:pt x="7243" y="12378"/>
                </a:cubicBezTo>
                <a:cubicBezTo>
                  <a:pt x="7253" y="12469"/>
                  <a:pt x="7293" y="12303"/>
                  <a:pt x="7293" y="12303"/>
                </a:cubicBezTo>
                <a:cubicBezTo>
                  <a:pt x="7293" y="12287"/>
                  <a:pt x="7293" y="12270"/>
                  <a:pt x="7293" y="12254"/>
                </a:cubicBezTo>
                <a:cubicBezTo>
                  <a:pt x="7293" y="12246"/>
                  <a:pt x="7293" y="12237"/>
                  <a:pt x="7293" y="12229"/>
                </a:cubicBezTo>
                <a:cubicBezTo>
                  <a:pt x="7281" y="12291"/>
                  <a:pt x="7243" y="12337"/>
                  <a:pt x="7243" y="12402"/>
                </a:cubicBezTo>
                <a:cubicBezTo>
                  <a:pt x="7175" y="12383"/>
                  <a:pt x="7117" y="12355"/>
                  <a:pt x="7094" y="12378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81160" y="5010120"/>
            <a:ext cx="642960" cy="258840"/>
          </a:xfrm>
          <a:custGeom>
            <a:avLst/>
            <a:gdLst/>
            <a:ahLst/>
            <a:rect l="l" t="t" r="r" b="b"/>
            <a:pathLst>
              <a:path w="1787" h="721">
                <a:moveTo>
                  <a:pt x="6524" y="14139"/>
                </a:moveTo>
                <a:cubicBezTo>
                  <a:pt x="6524" y="14046"/>
                  <a:pt x="6557" y="14011"/>
                  <a:pt x="6648" y="13965"/>
                </a:cubicBezTo>
                <a:cubicBezTo>
                  <a:pt x="6711" y="13933"/>
                  <a:pt x="6768" y="13971"/>
                  <a:pt x="6796" y="14015"/>
                </a:cubicBezTo>
                <a:cubicBezTo>
                  <a:pt x="6818" y="14050"/>
                  <a:pt x="6846" y="14173"/>
                  <a:pt x="6821" y="14213"/>
                </a:cubicBezTo>
                <a:cubicBezTo>
                  <a:pt x="6798" y="14250"/>
                  <a:pt x="6718" y="14302"/>
                  <a:pt x="6672" y="14337"/>
                </a:cubicBezTo>
                <a:cubicBezTo>
                  <a:pt x="6609" y="14386"/>
                  <a:pt x="6589" y="14417"/>
                  <a:pt x="6548" y="14486"/>
                </a:cubicBezTo>
                <a:cubicBezTo>
                  <a:pt x="6521" y="14531"/>
                  <a:pt x="6510" y="14589"/>
                  <a:pt x="6499" y="14635"/>
                </a:cubicBezTo>
                <a:cubicBezTo>
                  <a:pt x="6531" y="14570"/>
                  <a:pt x="6548" y="14511"/>
                  <a:pt x="6623" y="14486"/>
                </a:cubicBezTo>
                <a:cubicBezTo>
                  <a:pt x="6667" y="14471"/>
                  <a:pt x="6712" y="14507"/>
                  <a:pt x="6722" y="14511"/>
                </a:cubicBezTo>
                <a:cubicBezTo>
                  <a:pt x="6764" y="14529"/>
                  <a:pt x="6767" y="14581"/>
                  <a:pt x="6821" y="14585"/>
                </a:cubicBezTo>
                <a:cubicBezTo>
                  <a:pt x="6898" y="14591"/>
                  <a:pt x="6903" y="14540"/>
                  <a:pt x="6945" y="14486"/>
                </a:cubicBezTo>
              </a:path>
              <a:path w="1787" h="721">
                <a:moveTo>
                  <a:pt x="7417" y="14114"/>
                </a:moveTo>
                <a:cubicBezTo>
                  <a:pt x="7349" y="14073"/>
                  <a:pt x="7296" y="14094"/>
                  <a:pt x="7243" y="14163"/>
                </a:cubicBezTo>
                <a:cubicBezTo>
                  <a:pt x="7180" y="14245"/>
                  <a:pt x="7173" y="14365"/>
                  <a:pt x="7169" y="14461"/>
                </a:cubicBezTo>
                <a:cubicBezTo>
                  <a:pt x="7166" y="14529"/>
                  <a:pt x="7195" y="14593"/>
                  <a:pt x="7268" y="14610"/>
                </a:cubicBezTo>
                <a:cubicBezTo>
                  <a:pt x="7384" y="14638"/>
                  <a:pt x="7454" y="14531"/>
                  <a:pt x="7516" y="14461"/>
                </a:cubicBezTo>
                <a:cubicBezTo>
                  <a:pt x="7572" y="14397"/>
                  <a:pt x="7565" y="14318"/>
                  <a:pt x="7565" y="14238"/>
                </a:cubicBezTo>
                <a:cubicBezTo>
                  <a:pt x="7565" y="14184"/>
                  <a:pt x="7555" y="14154"/>
                  <a:pt x="7491" y="14139"/>
                </a:cubicBezTo>
                <a:cubicBezTo>
                  <a:pt x="7433" y="14126"/>
                  <a:pt x="7432" y="14103"/>
                  <a:pt x="7417" y="14163"/>
                </a:cubicBezTo>
              </a:path>
              <a:path w="1787" h="721">
                <a:moveTo>
                  <a:pt x="6127" y="13940"/>
                </a:moveTo>
                <a:cubicBezTo>
                  <a:pt x="6092" y="13888"/>
                  <a:pt x="5973" y="13918"/>
                  <a:pt x="5904" y="13940"/>
                </a:cubicBezTo>
                <a:cubicBezTo>
                  <a:pt x="5818" y="13968"/>
                  <a:pt x="5736" y="14076"/>
                  <a:pt x="5804" y="14163"/>
                </a:cubicBezTo>
                <a:cubicBezTo>
                  <a:pt x="5887" y="14270"/>
                  <a:pt x="6035" y="14289"/>
                  <a:pt x="6127" y="14412"/>
                </a:cubicBezTo>
                <a:cubicBezTo>
                  <a:pt x="6073" y="14518"/>
                  <a:pt x="6039" y="14573"/>
                  <a:pt x="5904" y="14560"/>
                </a:cubicBezTo>
                <a:cubicBezTo>
                  <a:pt x="5726" y="14543"/>
                  <a:pt x="5821" y="14343"/>
                  <a:pt x="5879" y="14263"/>
                </a:cubicBezTo>
                <a:cubicBezTo>
                  <a:pt x="5944" y="14173"/>
                  <a:pt x="6071" y="14137"/>
                  <a:pt x="6127" y="14039"/>
                </a:cubicBezTo>
                <a:cubicBezTo>
                  <a:pt x="6196" y="13918"/>
                  <a:pt x="6116" y="13920"/>
                  <a:pt x="6028" y="13940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97080" y="5545080"/>
            <a:ext cx="455760" cy="241200"/>
          </a:xfrm>
          <a:custGeom>
            <a:avLst/>
            <a:gdLst/>
            <a:ahLst/>
            <a:rect l="l" t="t" r="r" b="b"/>
            <a:pathLst>
              <a:path w="1266" h="670">
                <a:moveTo>
                  <a:pt x="6672" y="15453"/>
                </a:moveTo>
                <a:cubicBezTo>
                  <a:pt x="6539" y="15510"/>
                  <a:pt x="6495" y="15516"/>
                  <a:pt x="6424" y="15627"/>
                </a:cubicBezTo>
                <a:cubicBezTo>
                  <a:pt x="6512" y="15758"/>
                  <a:pt x="6661" y="15845"/>
                  <a:pt x="6772" y="15974"/>
                </a:cubicBezTo>
                <a:cubicBezTo>
                  <a:pt x="6744" y="16005"/>
                  <a:pt x="6530" y="16143"/>
                  <a:pt x="6524" y="15999"/>
                </a:cubicBezTo>
                <a:cubicBezTo>
                  <a:pt x="6520" y="15899"/>
                  <a:pt x="6619" y="15639"/>
                  <a:pt x="6697" y="15577"/>
                </a:cubicBezTo>
                <a:cubicBezTo>
                  <a:pt x="6755" y="15577"/>
                  <a:pt x="6796" y="15577"/>
                  <a:pt x="6846" y="15577"/>
                </a:cubicBezTo>
              </a:path>
              <a:path w="1266" h="670">
                <a:moveTo>
                  <a:pt x="6995" y="15478"/>
                </a:moveTo>
                <a:cubicBezTo>
                  <a:pt x="7114" y="15431"/>
                  <a:pt x="7204" y="15330"/>
                  <a:pt x="7317" y="15503"/>
                </a:cubicBezTo>
                <a:cubicBezTo>
                  <a:pt x="7448" y="15704"/>
                  <a:pt x="7330" y="15939"/>
                  <a:pt x="7119" y="15999"/>
                </a:cubicBezTo>
                <a:cubicBezTo>
                  <a:pt x="7034" y="15999"/>
                  <a:pt x="7008" y="16012"/>
                  <a:pt x="6995" y="15949"/>
                </a:cubicBezTo>
                <a:cubicBezTo>
                  <a:pt x="7051" y="15849"/>
                  <a:pt x="7160" y="15819"/>
                  <a:pt x="7293" y="15875"/>
                </a:cubicBezTo>
                <a:cubicBezTo>
                  <a:pt x="7410" y="15924"/>
                  <a:pt x="7395" y="15995"/>
                  <a:pt x="7268" y="15974"/>
                </a:cubicBezTo>
              </a:path>
              <a:path w="1266" h="670">
                <a:moveTo>
                  <a:pt x="6276" y="15949"/>
                </a:moveTo>
                <a:cubicBezTo>
                  <a:pt x="6193" y="15919"/>
                  <a:pt x="6132" y="15918"/>
                  <a:pt x="6102" y="16024"/>
                </a:cubicBezTo>
                <a:cubicBezTo>
                  <a:pt x="6083" y="16090"/>
                  <a:pt x="6147" y="16090"/>
                  <a:pt x="6152" y="16049"/>
                </a:cubicBezTo>
                <a:cubicBezTo>
                  <a:pt x="6152" y="16041"/>
                  <a:pt x="6152" y="16032"/>
                  <a:pt x="6152" y="16024"/>
                </a:cubicBezTo>
                <a:cubicBezTo>
                  <a:pt x="6038" y="16098"/>
                  <a:pt x="6243" y="16048"/>
                  <a:pt x="6201" y="16024"/>
                </a:cubicBezTo>
                <a:cubicBezTo>
                  <a:pt x="6185" y="16024"/>
                  <a:pt x="6168" y="16024"/>
                  <a:pt x="6152" y="1602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89800" y="3268800"/>
            <a:ext cx="644400" cy="455400"/>
          </a:xfrm>
          <a:custGeom>
            <a:avLst/>
            <a:gdLst/>
            <a:ahLst/>
            <a:rect l="l" t="t" r="r" b="b"/>
            <a:pathLst>
              <a:path w="1787" h="1266">
                <a:moveTo>
                  <a:pt x="19621" y="9128"/>
                </a:moveTo>
                <a:cubicBezTo>
                  <a:pt x="19720" y="9108"/>
                  <a:pt x="19812" y="9082"/>
                  <a:pt x="19918" y="9079"/>
                </a:cubicBezTo>
                <a:cubicBezTo>
                  <a:pt x="19976" y="9077"/>
                  <a:pt x="20034" y="9079"/>
                  <a:pt x="20092" y="9079"/>
                </a:cubicBezTo>
                <a:cubicBezTo>
                  <a:pt x="19981" y="9094"/>
                  <a:pt x="19882" y="9103"/>
                  <a:pt x="19769" y="9103"/>
                </a:cubicBezTo>
                <a:cubicBezTo>
                  <a:pt x="19721" y="9103"/>
                  <a:pt x="19690" y="9119"/>
                  <a:pt x="19645" y="9128"/>
                </a:cubicBezTo>
              </a:path>
              <a:path w="1787" h="1266">
                <a:moveTo>
                  <a:pt x="18628" y="9649"/>
                </a:moveTo>
                <a:cubicBezTo>
                  <a:pt x="18597" y="9585"/>
                  <a:pt x="18527" y="9573"/>
                  <a:pt x="18479" y="9649"/>
                </a:cubicBezTo>
                <a:cubicBezTo>
                  <a:pt x="18339" y="9869"/>
                  <a:pt x="18309" y="10096"/>
                  <a:pt x="18331" y="10344"/>
                </a:cubicBezTo>
                <a:cubicBezTo>
                  <a:pt x="18537" y="10308"/>
                  <a:pt x="18743" y="10218"/>
                  <a:pt x="18728" y="9947"/>
                </a:cubicBezTo>
                <a:cubicBezTo>
                  <a:pt x="18726" y="9915"/>
                  <a:pt x="18596" y="9652"/>
                  <a:pt x="18554" y="9674"/>
                </a:cubicBezTo>
                <a:cubicBezTo>
                  <a:pt x="18554" y="9682"/>
                  <a:pt x="18554" y="9691"/>
                  <a:pt x="18554" y="9699"/>
                </a:cubicBezTo>
              </a:path>
              <a:path w="1787" h="1266">
                <a:moveTo>
                  <a:pt x="18951" y="10046"/>
                </a:moveTo>
                <a:cubicBezTo>
                  <a:pt x="18968" y="10098"/>
                  <a:pt x="18976" y="10288"/>
                  <a:pt x="18976" y="10120"/>
                </a:cubicBezTo>
              </a:path>
              <a:path w="1787" h="1266">
                <a:moveTo>
                  <a:pt x="19645" y="9674"/>
                </a:moveTo>
                <a:cubicBezTo>
                  <a:pt x="19645" y="9560"/>
                  <a:pt x="19616" y="9513"/>
                  <a:pt x="19546" y="9426"/>
                </a:cubicBezTo>
                <a:cubicBezTo>
                  <a:pt x="19416" y="9370"/>
                  <a:pt x="19325" y="9530"/>
                  <a:pt x="19298" y="9649"/>
                </a:cubicBezTo>
                <a:cubicBezTo>
                  <a:pt x="19298" y="9791"/>
                  <a:pt x="19288" y="9819"/>
                  <a:pt x="19323" y="9897"/>
                </a:cubicBezTo>
                <a:cubicBezTo>
                  <a:pt x="19480" y="9880"/>
                  <a:pt x="19638" y="9854"/>
                  <a:pt x="19645" y="9649"/>
                </a:cubicBezTo>
                <a:cubicBezTo>
                  <a:pt x="19637" y="9624"/>
                  <a:pt x="19629" y="9600"/>
                  <a:pt x="19621" y="9575"/>
                </a:cubicBezTo>
                <a:cubicBezTo>
                  <a:pt x="19621" y="9480"/>
                  <a:pt x="19616" y="9576"/>
                  <a:pt x="19621" y="9624"/>
                </a:cubicBezTo>
                <a:cubicBezTo>
                  <a:pt x="19638" y="9800"/>
                  <a:pt x="19670" y="9968"/>
                  <a:pt x="19670" y="10145"/>
                </a:cubicBezTo>
                <a:cubicBezTo>
                  <a:pt x="19670" y="10173"/>
                  <a:pt x="19672" y="10184"/>
                  <a:pt x="19695" y="10195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43840" y="2678040"/>
            <a:ext cx="277560" cy="152640"/>
          </a:xfrm>
          <a:custGeom>
            <a:avLst/>
            <a:gdLst/>
            <a:ahLst/>
            <a:rect l="l" t="t" r="r" b="b"/>
            <a:pathLst>
              <a:path w="770" h="423">
                <a:moveTo>
                  <a:pt x="19869" y="7863"/>
                </a:moveTo>
                <a:cubicBezTo>
                  <a:pt x="19831" y="7788"/>
                  <a:pt x="19896" y="7630"/>
                  <a:pt x="19968" y="7541"/>
                </a:cubicBezTo>
                <a:cubicBezTo>
                  <a:pt x="20085" y="7396"/>
                  <a:pt x="20234" y="7414"/>
                  <a:pt x="20365" y="7541"/>
                </a:cubicBezTo>
                <a:cubicBezTo>
                  <a:pt x="20411" y="7610"/>
                  <a:pt x="20423" y="7630"/>
                  <a:pt x="20464" y="7665"/>
                </a:cubicBezTo>
                <a:cubicBezTo>
                  <a:pt x="20492" y="7745"/>
                  <a:pt x="20463" y="7632"/>
                  <a:pt x="20439" y="7615"/>
                </a:cubicBezTo>
                <a:cubicBezTo>
                  <a:pt x="20385" y="7577"/>
                  <a:pt x="20481" y="7709"/>
                  <a:pt x="20489" y="7714"/>
                </a:cubicBezTo>
                <a:cubicBezTo>
                  <a:pt x="20542" y="7748"/>
                  <a:pt x="20488" y="7739"/>
                  <a:pt x="20439" y="7739"/>
                </a:cubicBezTo>
                <a:cubicBezTo>
                  <a:pt x="20347" y="7708"/>
                  <a:pt x="20513" y="7745"/>
                  <a:pt x="20538" y="7739"/>
                </a:cubicBezTo>
                <a:cubicBezTo>
                  <a:pt x="20618" y="7719"/>
                  <a:pt x="20572" y="7662"/>
                  <a:pt x="20588" y="7590"/>
                </a:cubicBezTo>
                <a:cubicBezTo>
                  <a:pt x="20596" y="7574"/>
                  <a:pt x="20605" y="7557"/>
                  <a:pt x="20613" y="7541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29080" y="4286160"/>
            <a:ext cx="2063880" cy="142920"/>
          </a:xfrm>
          <a:custGeom>
            <a:avLst/>
            <a:gdLst/>
            <a:ahLst/>
            <a:rect l="l" t="t" r="r" b="b"/>
            <a:pathLst>
              <a:path w="5731" h="398">
                <a:moveTo>
                  <a:pt x="12303" y="12154"/>
                </a:moveTo>
                <a:cubicBezTo>
                  <a:pt x="12346" y="12178"/>
                  <a:pt x="12406" y="12232"/>
                  <a:pt x="12477" y="12254"/>
                </a:cubicBezTo>
                <a:cubicBezTo>
                  <a:pt x="12643" y="12305"/>
                  <a:pt x="12792" y="12243"/>
                  <a:pt x="12948" y="12204"/>
                </a:cubicBezTo>
                <a:cubicBezTo>
                  <a:pt x="13105" y="12164"/>
                  <a:pt x="13126" y="12184"/>
                  <a:pt x="13246" y="12229"/>
                </a:cubicBezTo>
                <a:cubicBezTo>
                  <a:pt x="13367" y="12274"/>
                  <a:pt x="13453" y="12284"/>
                  <a:pt x="13618" y="12278"/>
                </a:cubicBezTo>
                <a:cubicBezTo>
                  <a:pt x="13807" y="12271"/>
                  <a:pt x="13998" y="12240"/>
                  <a:pt x="14188" y="12254"/>
                </a:cubicBezTo>
                <a:cubicBezTo>
                  <a:pt x="14306" y="12262"/>
                  <a:pt x="14425" y="12272"/>
                  <a:pt x="14560" y="12254"/>
                </a:cubicBezTo>
                <a:cubicBezTo>
                  <a:pt x="14752" y="12228"/>
                  <a:pt x="14918" y="12192"/>
                  <a:pt x="15106" y="12229"/>
                </a:cubicBezTo>
                <a:cubicBezTo>
                  <a:pt x="15277" y="12262"/>
                  <a:pt x="15375" y="12260"/>
                  <a:pt x="15577" y="12204"/>
                </a:cubicBezTo>
                <a:cubicBezTo>
                  <a:pt x="15776" y="12149"/>
                  <a:pt x="15838" y="12140"/>
                  <a:pt x="16024" y="12179"/>
                </a:cubicBezTo>
                <a:cubicBezTo>
                  <a:pt x="16247" y="12226"/>
                  <a:pt x="16494" y="12135"/>
                  <a:pt x="16718" y="12105"/>
                </a:cubicBezTo>
                <a:cubicBezTo>
                  <a:pt x="16876" y="12084"/>
                  <a:pt x="17033" y="12073"/>
                  <a:pt x="17190" y="12055"/>
                </a:cubicBezTo>
                <a:cubicBezTo>
                  <a:pt x="17352" y="12036"/>
                  <a:pt x="17502" y="11975"/>
                  <a:pt x="17661" y="11956"/>
                </a:cubicBezTo>
                <a:cubicBezTo>
                  <a:pt x="17778" y="11942"/>
                  <a:pt x="17892" y="11925"/>
                  <a:pt x="18008" y="11906"/>
                </a:cubicBezTo>
                <a:cubicBezTo>
                  <a:pt x="18016" y="11906"/>
                  <a:pt x="18025" y="11906"/>
                  <a:pt x="18033" y="11906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51040" y="5018040"/>
            <a:ext cx="241200" cy="233280"/>
          </a:xfrm>
          <a:custGeom>
            <a:avLst/>
            <a:gdLst/>
            <a:ahLst/>
            <a:rect l="l" t="t" r="r" b="b"/>
            <a:pathLst>
              <a:path w="670" h="646">
                <a:moveTo>
                  <a:pt x="5432" y="14461"/>
                </a:moveTo>
                <a:cubicBezTo>
                  <a:pt x="5432" y="14453"/>
                  <a:pt x="5432" y="14444"/>
                  <a:pt x="5432" y="14436"/>
                </a:cubicBezTo>
                <a:cubicBezTo>
                  <a:pt x="5390" y="14450"/>
                  <a:pt x="5407" y="14485"/>
                  <a:pt x="5407" y="14536"/>
                </a:cubicBezTo>
              </a:path>
              <a:path w="670" h="646">
                <a:moveTo>
                  <a:pt x="5209" y="13965"/>
                </a:moveTo>
                <a:cubicBezTo>
                  <a:pt x="5199" y="13934"/>
                  <a:pt x="5155" y="13927"/>
                  <a:pt x="5110" y="13940"/>
                </a:cubicBezTo>
                <a:cubicBezTo>
                  <a:pt x="5060" y="13955"/>
                  <a:pt x="4997" y="13928"/>
                  <a:pt x="4961" y="13965"/>
                </a:cubicBezTo>
                <a:cubicBezTo>
                  <a:pt x="4906" y="14020"/>
                  <a:pt x="4936" y="14167"/>
                  <a:pt x="4936" y="14238"/>
                </a:cubicBezTo>
                <a:cubicBezTo>
                  <a:pt x="4981" y="14238"/>
                  <a:pt x="4995" y="14216"/>
                  <a:pt x="5035" y="14213"/>
                </a:cubicBezTo>
                <a:cubicBezTo>
                  <a:pt x="5153" y="14204"/>
                  <a:pt x="5182" y="14275"/>
                  <a:pt x="5209" y="14362"/>
                </a:cubicBezTo>
                <a:cubicBezTo>
                  <a:pt x="5235" y="14446"/>
                  <a:pt x="5259" y="14475"/>
                  <a:pt x="5184" y="14536"/>
                </a:cubicBezTo>
                <a:cubicBezTo>
                  <a:pt x="5126" y="14583"/>
                  <a:pt x="5037" y="14606"/>
                  <a:pt x="4961" y="14585"/>
                </a:cubicBezTo>
                <a:cubicBezTo>
                  <a:pt x="4935" y="14578"/>
                  <a:pt x="4826" y="14475"/>
                  <a:pt x="4887" y="14536"/>
                </a:cubicBezTo>
              </a:path>
              <a:path w="670" h="646">
                <a:moveTo>
                  <a:pt x="5457" y="14486"/>
                </a:moveTo>
                <a:cubicBezTo>
                  <a:pt x="5457" y="14531"/>
                  <a:pt x="5477" y="14636"/>
                  <a:pt x="5531" y="14511"/>
                </a:cubicBezTo>
                <a:cubicBezTo>
                  <a:pt x="5531" y="14494"/>
                  <a:pt x="5531" y="14478"/>
                  <a:pt x="5531" y="14461"/>
                </a:cubicBezTo>
                <a:cubicBezTo>
                  <a:pt x="5461" y="14461"/>
                  <a:pt x="5454" y="14495"/>
                  <a:pt x="5432" y="14560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55880" y="5545080"/>
            <a:ext cx="169920" cy="250920"/>
          </a:xfrm>
          <a:custGeom>
            <a:avLst/>
            <a:gdLst/>
            <a:ahLst/>
            <a:rect l="l" t="t" r="r" b="b"/>
            <a:pathLst>
              <a:path w="473" h="695">
                <a:moveTo>
                  <a:pt x="5879" y="15429"/>
                </a:moveTo>
                <a:cubicBezTo>
                  <a:pt x="5937" y="15342"/>
                  <a:pt x="5650" y="15475"/>
                  <a:pt x="5631" y="15478"/>
                </a:cubicBezTo>
                <a:cubicBezTo>
                  <a:pt x="5598" y="15478"/>
                  <a:pt x="5564" y="15478"/>
                  <a:pt x="5531" y="15478"/>
                </a:cubicBezTo>
                <a:cubicBezTo>
                  <a:pt x="5531" y="15577"/>
                  <a:pt x="5531" y="15677"/>
                  <a:pt x="5531" y="15776"/>
                </a:cubicBezTo>
                <a:cubicBezTo>
                  <a:pt x="5608" y="15834"/>
                  <a:pt x="5705" y="15719"/>
                  <a:pt x="5779" y="15776"/>
                </a:cubicBezTo>
                <a:cubicBezTo>
                  <a:pt x="5978" y="15929"/>
                  <a:pt x="5767" y="16102"/>
                  <a:pt x="5606" y="16098"/>
                </a:cubicBezTo>
                <a:cubicBezTo>
                  <a:pt x="5536" y="16096"/>
                  <a:pt x="5376" y="16066"/>
                  <a:pt x="5432" y="16024"/>
                </a:cubicBezTo>
                <a:cubicBezTo>
                  <a:pt x="5440" y="16024"/>
                  <a:pt x="5449" y="16024"/>
                  <a:pt x="5457" y="1602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91040" y="4456080"/>
            <a:ext cx="9720" cy="17640"/>
          </a:xfrm>
          <a:custGeom>
            <a:avLst/>
            <a:gdLst/>
            <a:ahLst/>
            <a:rect l="l" t="t" r="r" b="b"/>
            <a:pathLst>
              <a:path w="26" h="50">
                <a:moveTo>
                  <a:pt x="13891" y="12378"/>
                </a:moveTo>
                <a:cubicBezTo>
                  <a:pt x="13891" y="12386"/>
                  <a:pt x="13891" y="12394"/>
                  <a:pt x="13891" y="12402"/>
                </a:cubicBezTo>
              </a:path>
              <a:path w="26" h="50">
                <a:moveTo>
                  <a:pt x="13891" y="12427"/>
                </a:moveTo>
                <a:lnTo>
                  <a:pt x="13891" y="12427"/>
                </a:lnTo>
              </a:path>
              <a:path w="26" h="50">
                <a:moveTo>
                  <a:pt x="13891" y="12427"/>
                </a:moveTo>
                <a:lnTo>
                  <a:pt x="13891" y="12427"/>
                </a:lnTo>
              </a:path>
              <a:path w="26" h="50">
                <a:moveTo>
                  <a:pt x="13891" y="12402"/>
                </a:moveTo>
                <a:cubicBezTo>
                  <a:pt x="13883" y="12402"/>
                  <a:pt x="13874" y="12402"/>
                  <a:pt x="13866" y="12402"/>
                </a:cubicBezTo>
              </a:path>
              <a:path w="26" h="50">
                <a:moveTo>
                  <a:pt x="13866" y="12378"/>
                </a:moveTo>
                <a:lnTo>
                  <a:pt x="13866" y="12378"/>
                </a:ln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97280" y="5402160"/>
            <a:ext cx="9720" cy="19080"/>
          </a:xfrm>
          <a:custGeom>
            <a:avLst/>
            <a:gdLst/>
            <a:ahLst/>
            <a:rect l="l" t="t" r="r" b="b"/>
            <a:pathLst>
              <a:path w="26" h="50">
                <a:moveTo>
                  <a:pt x="13047" y="15007"/>
                </a:moveTo>
                <a:cubicBezTo>
                  <a:pt x="13047" y="15035"/>
                  <a:pt x="13049" y="15046"/>
                  <a:pt x="13072" y="15056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13760" y="4321080"/>
            <a:ext cx="428400" cy="590760"/>
          </a:xfrm>
          <a:custGeom>
            <a:avLst/>
            <a:gdLst/>
            <a:ahLst/>
            <a:rect l="l" t="t" r="r" b="b"/>
            <a:pathLst>
              <a:path w="1192" h="1639">
                <a:moveTo>
                  <a:pt x="20687" y="12650"/>
                </a:moveTo>
                <a:cubicBezTo>
                  <a:pt x="20687" y="12601"/>
                  <a:pt x="20668" y="12579"/>
                  <a:pt x="20613" y="12551"/>
                </a:cubicBezTo>
                <a:cubicBezTo>
                  <a:pt x="20576" y="12532"/>
                  <a:pt x="20514" y="12554"/>
                  <a:pt x="20489" y="12576"/>
                </a:cubicBezTo>
                <a:cubicBezTo>
                  <a:pt x="20422" y="12634"/>
                  <a:pt x="20413" y="12680"/>
                  <a:pt x="20389" y="12750"/>
                </a:cubicBezTo>
                <a:cubicBezTo>
                  <a:pt x="20368" y="12812"/>
                  <a:pt x="20360" y="12866"/>
                  <a:pt x="20340" y="12923"/>
                </a:cubicBezTo>
                <a:cubicBezTo>
                  <a:pt x="20318" y="12986"/>
                  <a:pt x="20315" y="13004"/>
                  <a:pt x="20315" y="13072"/>
                </a:cubicBezTo>
                <a:cubicBezTo>
                  <a:pt x="20315" y="13143"/>
                  <a:pt x="20317" y="13147"/>
                  <a:pt x="20365" y="13196"/>
                </a:cubicBezTo>
                <a:cubicBezTo>
                  <a:pt x="20397" y="13229"/>
                  <a:pt x="20414" y="13227"/>
                  <a:pt x="20439" y="13246"/>
                </a:cubicBezTo>
                <a:cubicBezTo>
                  <a:pt x="20475" y="13273"/>
                  <a:pt x="20515" y="13290"/>
                  <a:pt x="20563" y="13295"/>
                </a:cubicBezTo>
                <a:cubicBezTo>
                  <a:pt x="20590" y="13298"/>
                  <a:pt x="20674" y="13262"/>
                  <a:pt x="20687" y="13246"/>
                </a:cubicBezTo>
                <a:cubicBezTo>
                  <a:pt x="20719" y="13207"/>
                  <a:pt x="20762" y="13181"/>
                  <a:pt x="20786" y="13146"/>
                </a:cubicBezTo>
                <a:cubicBezTo>
                  <a:pt x="20806" y="13117"/>
                  <a:pt x="20832" y="13054"/>
                  <a:pt x="20836" y="13022"/>
                </a:cubicBezTo>
                <a:cubicBezTo>
                  <a:pt x="20842" y="12972"/>
                  <a:pt x="20815" y="12912"/>
                  <a:pt x="20811" y="12898"/>
                </a:cubicBezTo>
                <a:cubicBezTo>
                  <a:pt x="20795" y="12836"/>
                  <a:pt x="20803" y="12783"/>
                  <a:pt x="20786" y="12750"/>
                </a:cubicBezTo>
                <a:cubicBezTo>
                  <a:pt x="20775" y="12728"/>
                  <a:pt x="20769" y="12697"/>
                  <a:pt x="20737" y="12675"/>
                </a:cubicBezTo>
                <a:cubicBezTo>
                  <a:pt x="20696" y="12655"/>
                  <a:pt x="20690" y="12646"/>
                  <a:pt x="20662" y="12650"/>
                </a:cubicBezTo>
              </a:path>
              <a:path w="1192" h="1639">
                <a:moveTo>
                  <a:pt x="20439" y="13593"/>
                </a:moveTo>
                <a:cubicBezTo>
                  <a:pt x="20525" y="13576"/>
                  <a:pt x="20593" y="13568"/>
                  <a:pt x="20687" y="13568"/>
                </a:cubicBezTo>
                <a:cubicBezTo>
                  <a:pt x="20786" y="13568"/>
                  <a:pt x="20827" y="13578"/>
                  <a:pt x="20662" y="13593"/>
                </a:cubicBezTo>
                <a:cubicBezTo>
                  <a:pt x="20660" y="13593"/>
                  <a:pt x="20414" y="13593"/>
                  <a:pt x="20489" y="13593"/>
                </a:cubicBezTo>
                <a:cubicBezTo>
                  <a:pt x="20605" y="13593"/>
                  <a:pt x="20654" y="13593"/>
                  <a:pt x="20737" y="13593"/>
                </a:cubicBezTo>
                <a:cubicBezTo>
                  <a:pt x="20946" y="13593"/>
                  <a:pt x="20813" y="13593"/>
                  <a:pt x="20712" y="13593"/>
                </a:cubicBezTo>
                <a:cubicBezTo>
                  <a:pt x="20646" y="13593"/>
                  <a:pt x="20497" y="13593"/>
                  <a:pt x="20563" y="13593"/>
                </a:cubicBezTo>
                <a:cubicBezTo>
                  <a:pt x="20664" y="13593"/>
                  <a:pt x="20763" y="13588"/>
                  <a:pt x="20861" y="13568"/>
                </a:cubicBezTo>
                <a:cubicBezTo>
                  <a:pt x="20952" y="13550"/>
                  <a:pt x="20679" y="13601"/>
                  <a:pt x="20588" y="13618"/>
                </a:cubicBezTo>
                <a:cubicBezTo>
                  <a:pt x="20392" y="13630"/>
                  <a:pt x="20383" y="13657"/>
                  <a:pt x="20588" y="13618"/>
                </a:cubicBezTo>
                <a:cubicBezTo>
                  <a:pt x="20605" y="13615"/>
                  <a:pt x="20909" y="13551"/>
                  <a:pt x="20836" y="13568"/>
                </a:cubicBezTo>
                <a:cubicBezTo>
                  <a:pt x="20721" y="13597"/>
                  <a:pt x="20672" y="13608"/>
                  <a:pt x="20588" y="13618"/>
                </a:cubicBezTo>
                <a:cubicBezTo>
                  <a:pt x="20395" y="13695"/>
                  <a:pt x="20760" y="13579"/>
                  <a:pt x="20811" y="13568"/>
                </a:cubicBezTo>
                <a:cubicBezTo>
                  <a:pt x="20884" y="13552"/>
                  <a:pt x="20641" y="13617"/>
                  <a:pt x="20638" y="13618"/>
                </a:cubicBezTo>
                <a:cubicBezTo>
                  <a:pt x="20470" y="13679"/>
                  <a:pt x="20816" y="13595"/>
                  <a:pt x="20836" y="13593"/>
                </a:cubicBezTo>
                <a:cubicBezTo>
                  <a:pt x="20844" y="13593"/>
                  <a:pt x="20853" y="13593"/>
                  <a:pt x="20861" y="13593"/>
                </a:cubicBezTo>
              </a:path>
              <a:path w="1192" h="1639">
                <a:moveTo>
                  <a:pt x="20588" y="12254"/>
                </a:moveTo>
                <a:cubicBezTo>
                  <a:pt x="20608" y="12166"/>
                  <a:pt x="20643" y="12093"/>
                  <a:pt x="20737" y="12055"/>
                </a:cubicBezTo>
                <a:cubicBezTo>
                  <a:pt x="20864" y="12004"/>
                  <a:pt x="20935" y="12018"/>
                  <a:pt x="21059" y="12030"/>
                </a:cubicBezTo>
                <a:cubicBezTo>
                  <a:pt x="21202" y="12044"/>
                  <a:pt x="21227" y="12035"/>
                  <a:pt x="21307" y="12154"/>
                </a:cubicBezTo>
                <a:cubicBezTo>
                  <a:pt x="21374" y="12253"/>
                  <a:pt x="21382" y="12308"/>
                  <a:pt x="21382" y="12427"/>
                </a:cubicBezTo>
                <a:cubicBezTo>
                  <a:pt x="21382" y="12452"/>
                  <a:pt x="21382" y="12460"/>
                  <a:pt x="21382" y="12427"/>
                </a:cubicBezTo>
                <a:cubicBezTo>
                  <a:pt x="21382" y="12358"/>
                  <a:pt x="21401" y="12297"/>
                  <a:pt x="21406" y="12229"/>
                </a:cubicBezTo>
                <a:cubicBezTo>
                  <a:pt x="21406" y="12204"/>
                  <a:pt x="21406" y="12196"/>
                  <a:pt x="21406" y="12229"/>
                </a:cubicBezTo>
                <a:cubicBezTo>
                  <a:pt x="21406" y="12262"/>
                  <a:pt x="21421" y="12449"/>
                  <a:pt x="21382" y="12427"/>
                </a:cubicBezTo>
                <a:cubicBezTo>
                  <a:pt x="21300" y="12367"/>
                  <a:pt x="21277" y="12363"/>
                  <a:pt x="21258" y="12303"/>
                </a:cubicBezTo>
                <a:cubicBezTo>
                  <a:pt x="21326" y="12315"/>
                  <a:pt x="21399" y="12337"/>
                  <a:pt x="21456" y="12353"/>
                </a:cubicBezTo>
                <a:cubicBezTo>
                  <a:pt x="21481" y="12353"/>
                  <a:pt x="21489" y="12353"/>
                  <a:pt x="21506" y="12353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42080" y="5160960"/>
            <a:ext cx="803160" cy="268200"/>
          </a:xfrm>
          <a:custGeom>
            <a:avLst/>
            <a:gdLst/>
            <a:ahLst/>
            <a:rect l="l" t="t" r="r" b="b"/>
            <a:pathLst>
              <a:path w="2233" h="745">
                <a:moveTo>
                  <a:pt x="19149" y="14461"/>
                </a:moveTo>
                <a:cubicBezTo>
                  <a:pt x="19021" y="14418"/>
                  <a:pt x="19318" y="14339"/>
                  <a:pt x="19323" y="14337"/>
                </a:cubicBezTo>
                <a:cubicBezTo>
                  <a:pt x="19591" y="14529"/>
                  <a:pt x="19407" y="14744"/>
                  <a:pt x="19174" y="14932"/>
                </a:cubicBezTo>
                <a:cubicBezTo>
                  <a:pt x="18989" y="15081"/>
                  <a:pt x="18923" y="15085"/>
                  <a:pt x="18728" y="15032"/>
                </a:cubicBezTo>
                <a:cubicBezTo>
                  <a:pt x="18823" y="14812"/>
                  <a:pt x="18972" y="14756"/>
                  <a:pt x="19224" y="14833"/>
                </a:cubicBezTo>
                <a:cubicBezTo>
                  <a:pt x="19378" y="14880"/>
                  <a:pt x="19347" y="15007"/>
                  <a:pt x="19422" y="15056"/>
                </a:cubicBezTo>
              </a:path>
              <a:path w="2233" h="745">
                <a:moveTo>
                  <a:pt x="19893" y="14982"/>
                </a:moveTo>
                <a:cubicBezTo>
                  <a:pt x="19851" y="15026"/>
                  <a:pt x="19918" y="15020"/>
                  <a:pt x="19918" y="14957"/>
                </a:cubicBezTo>
              </a:path>
              <a:path w="2233" h="745">
                <a:moveTo>
                  <a:pt x="20365" y="14387"/>
                </a:moveTo>
                <a:cubicBezTo>
                  <a:pt x="20365" y="14489"/>
                  <a:pt x="20324" y="14583"/>
                  <a:pt x="20315" y="14684"/>
                </a:cubicBezTo>
                <a:cubicBezTo>
                  <a:pt x="20304" y="14801"/>
                  <a:pt x="20286" y="15014"/>
                  <a:pt x="20439" y="15056"/>
                </a:cubicBezTo>
                <a:cubicBezTo>
                  <a:pt x="20606" y="15102"/>
                  <a:pt x="20805" y="14975"/>
                  <a:pt x="20910" y="14858"/>
                </a:cubicBezTo>
                <a:cubicBezTo>
                  <a:pt x="20972" y="14789"/>
                  <a:pt x="20975" y="14766"/>
                  <a:pt x="20910" y="14734"/>
                </a:cubicBezTo>
                <a:cubicBezTo>
                  <a:pt x="20739" y="14734"/>
                  <a:pt x="20701" y="14805"/>
                  <a:pt x="20687" y="14982"/>
                </a:cubicBezTo>
                <a:cubicBezTo>
                  <a:pt x="20687" y="14999"/>
                  <a:pt x="20687" y="15015"/>
                  <a:pt x="20687" y="15032"/>
                </a:cubicBezTo>
              </a:path>
              <a:path w="2233" h="745">
                <a:moveTo>
                  <a:pt x="19968" y="15032"/>
                </a:moveTo>
                <a:cubicBezTo>
                  <a:pt x="19954" y="14989"/>
                  <a:pt x="19912" y="15013"/>
                  <a:pt x="19893" y="15056"/>
                </a:cubicBezTo>
                <a:cubicBezTo>
                  <a:pt x="19893" y="15064"/>
                  <a:pt x="19893" y="15073"/>
                  <a:pt x="19893" y="15081"/>
                </a:cubicBezTo>
                <a:cubicBezTo>
                  <a:pt x="19957" y="15081"/>
                  <a:pt x="19993" y="15075"/>
                  <a:pt x="19918" y="15056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ff"/>
                </a:solidFill>
                <a:latin typeface="Arial"/>
              </a:rPr>
              <a:t>November 10, 2011</a:t>
            </a:r>
            <a:br>
              <a:rPr sz="4400"/>
            </a:br>
            <a:r>
              <a:rPr b="0" lang="en-US" sz="4400" spc="-1" strike="noStrike">
                <a:solidFill>
                  <a:srgbClr val="33ccff"/>
                </a:solidFill>
                <a:latin typeface="Arial"/>
              </a:rPr>
              <a:t>Unit 4 – Decimal Operations &amp; Percents</a:t>
            </a:r>
            <a:r>
              <a:rPr b="0" lang="en-US" sz="47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4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Verdana"/>
              </a:rPr>
              <a:t>Objective:  Students will Estimate Decimal Products and Quotients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1160640" y="4857840"/>
            <a:ext cx="5206680" cy="1044360"/>
          </a:xfrm>
          <a:custGeom>
            <a:avLst/>
            <a:gdLst/>
            <a:ahLst/>
            <a:rect l="l" t="t" r="r" b="b"/>
            <a:pathLst>
              <a:path w="14462" h="2903">
                <a:moveTo>
                  <a:pt x="3225" y="13494"/>
                </a:moveTo>
                <a:lnTo>
                  <a:pt x="3225" y="13494"/>
                </a:lnTo>
              </a:path>
              <a:path w="14462" h="2903">
                <a:moveTo>
                  <a:pt x="17537" y="15949"/>
                </a:moveTo>
                <a:cubicBezTo>
                  <a:pt x="17537" y="16015"/>
                  <a:pt x="17558" y="15950"/>
                  <a:pt x="17562" y="15925"/>
                </a:cubicBezTo>
              </a:path>
              <a:path w="14462" h="2903">
                <a:moveTo>
                  <a:pt x="17636" y="16371"/>
                </a:moveTo>
                <a:cubicBezTo>
                  <a:pt x="17636" y="16379"/>
                  <a:pt x="17636" y="16388"/>
                  <a:pt x="17636" y="16396"/>
                </a:cubicBezTo>
              </a:path>
              <a:path w="14462" h="2903">
                <a:moveTo>
                  <a:pt x="17636" y="16371"/>
                </a:moveTo>
                <a:cubicBezTo>
                  <a:pt x="17659" y="16394"/>
                  <a:pt x="17663" y="16402"/>
                  <a:pt x="17686" y="16396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24080" y="4803840"/>
            <a:ext cx="5035680" cy="1170000"/>
          </a:xfrm>
          <a:custGeom>
            <a:avLst/>
            <a:gdLst/>
            <a:ahLst/>
            <a:rect l="l" t="t" r="r" b="b"/>
            <a:pathLst>
              <a:path w="13991" h="3250">
                <a:moveTo>
                  <a:pt x="8260" y="13618"/>
                </a:moveTo>
                <a:cubicBezTo>
                  <a:pt x="8293" y="13619"/>
                  <a:pt x="8277" y="13615"/>
                  <a:pt x="8310" y="13618"/>
                </a:cubicBezTo>
                <a:cubicBezTo>
                  <a:pt x="8393" y="13625"/>
                  <a:pt x="8477" y="13645"/>
                  <a:pt x="8558" y="13643"/>
                </a:cubicBezTo>
                <a:cubicBezTo>
                  <a:pt x="8663" y="13640"/>
                  <a:pt x="8752" y="13628"/>
                  <a:pt x="8855" y="13618"/>
                </a:cubicBezTo>
                <a:cubicBezTo>
                  <a:pt x="8964" y="13607"/>
                  <a:pt x="9065" y="13580"/>
                  <a:pt x="9178" y="13568"/>
                </a:cubicBezTo>
                <a:cubicBezTo>
                  <a:pt x="9317" y="13554"/>
                  <a:pt x="9458" y="13527"/>
                  <a:pt x="9599" y="13519"/>
                </a:cubicBezTo>
                <a:cubicBezTo>
                  <a:pt x="9746" y="13511"/>
                  <a:pt x="9900" y="13491"/>
                  <a:pt x="10046" y="13494"/>
                </a:cubicBezTo>
                <a:cubicBezTo>
                  <a:pt x="10315" y="13500"/>
                  <a:pt x="10552" y="13581"/>
                  <a:pt x="10815" y="13618"/>
                </a:cubicBezTo>
                <a:cubicBezTo>
                  <a:pt x="11072" y="13654"/>
                  <a:pt x="11326" y="13622"/>
                  <a:pt x="11584" y="13643"/>
                </a:cubicBezTo>
                <a:cubicBezTo>
                  <a:pt x="11832" y="13663"/>
                  <a:pt x="12081" y="13689"/>
                  <a:pt x="12328" y="13717"/>
                </a:cubicBezTo>
                <a:cubicBezTo>
                  <a:pt x="12680" y="13756"/>
                  <a:pt x="13022" y="13728"/>
                  <a:pt x="13370" y="13717"/>
                </a:cubicBezTo>
                <a:cubicBezTo>
                  <a:pt x="13576" y="13711"/>
                  <a:pt x="13761" y="13697"/>
                  <a:pt x="13965" y="13667"/>
                </a:cubicBezTo>
                <a:cubicBezTo>
                  <a:pt x="14171" y="13637"/>
                  <a:pt x="14376" y="13602"/>
                  <a:pt x="14585" y="13568"/>
                </a:cubicBezTo>
                <a:cubicBezTo>
                  <a:pt x="15159" y="13475"/>
                  <a:pt x="15742" y="13374"/>
                  <a:pt x="16321" y="13345"/>
                </a:cubicBezTo>
                <a:cubicBezTo>
                  <a:pt x="16590" y="13331"/>
                  <a:pt x="16872" y="13348"/>
                  <a:pt x="17140" y="13370"/>
                </a:cubicBezTo>
                <a:cubicBezTo>
                  <a:pt x="17388" y="13390"/>
                  <a:pt x="17616" y="13431"/>
                  <a:pt x="17859" y="13469"/>
                </a:cubicBezTo>
                <a:cubicBezTo>
                  <a:pt x="18481" y="13567"/>
                  <a:pt x="19091" y="13568"/>
                  <a:pt x="19720" y="13568"/>
                </a:cubicBezTo>
                <a:cubicBezTo>
                  <a:pt x="19888" y="13568"/>
                  <a:pt x="20010" y="13582"/>
                  <a:pt x="20166" y="13618"/>
                </a:cubicBezTo>
                <a:cubicBezTo>
                  <a:pt x="20150" y="13618"/>
                  <a:pt x="20133" y="13618"/>
                  <a:pt x="20117" y="13618"/>
                </a:cubicBezTo>
              </a:path>
              <a:path w="13991" h="3250">
                <a:moveTo>
                  <a:pt x="6747" y="15503"/>
                </a:moveTo>
                <a:cubicBezTo>
                  <a:pt x="6821" y="15678"/>
                  <a:pt x="6991" y="15790"/>
                  <a:pt x="7144" y="15900"/>
                </a:cubicBezTo>
                <a:cubicBezTo>
                  <a:pt x="7237" y="15967"/>
                  <a:pt x="7370" y="16202"/>
                  <a:pt x="7417" y="16098"/>
                </a:cubicBezTo>
                <a:cubicBezTo>
                  <a:pt x="7417" y="16082"/>
                  <a:pt x="7417" y="16065"/>
                  <a:pt x="7417" y="16049"/>
                </a:cubicBezTo>
              </a:path>
              <a:path w="13991" h="3250">
                <a:moveTo>
                  <a:pt x="7417" y="15404"/>
                </a:moveTo>
                <a:cubicBezTo>
                  <a:pt x="7208" y="15537"/>
                  <a:pt x="7091" y="15745"/>
                  <a:pt x="6921" y="15925"/>
                </a:cubicBezTo>
                <a:cubicBezTo>
                  <a:pt x="6857" y="15993"/>
                  <a:pt x="6771" y="16090"/>
                  <a:pt x="6722" y="16073"/>
                </a:cubicBezTo>
              </a:path>
              <a:path w="13991" h="3250">
                <a:moveTo>
                  <a:pt x="7193" y="15354"/>
                </a:moveTo>
                <a:cubicBezTo>
                  <a:pt x="7163" y="15275"/>
                  <a:pt x="7138" y="15264"/>
                  <a:pt x="7045" y="15230"/>
                </a:cubicBezTo>
                <a:cubicBezTo>
                  <a:pt x="6894" y="15174"/>
                  <a:pt x="6789" y="15228"/>
                  <a:pt x="6648" y="15280"/>
                </a:cubicBezTo>
                <a:cubicBezTo>
                  <a:pt x="6516" y="15329"/>
                  <a:pt x="6461" y="15386"/>
                  <a:pt x="6375" y="15503"/>
                </a:cubicBezTo>
                <a:cubicBezTo>
                  <a:pt x="6285" y="15625"/>
                  <a:pt x="6240" y="15780"/>
                  <a:pt x="6201" y="15925"/>
                </a:cubicBezTo>
                <a:cubicBezTo>
                  <a:pt x="6164" y="16062"/>
                  <a:pt x="6181" y="16145"/>
                  <a:pt x="6251" y="16272"/>
                </a:cubicBezTo>
                <a:cubicBezTo>
                  <a:pt x="6317" y="16393"/>
                  <a:pt x="6444" y="16497"/>
                  <a:pt x="6573" y="16545"/>
                </a:cubicBezTo>
                <a:cubicBezTo>
                  <a:pt x="6736" y="16605"/>
                  <a:pt x="6945" y="16617"/>
                  <a:pt x="7119" y="16594"/>
                </a:cubicBezTo>
                <a:cubicBezTo>
                  <a:pt x="7229" y="16580"/>
                  <a:pt x="7365" y="16571"/>
                  <a:pt x="7466" y="16520"/>
                </a:cubicBezTo>
                <a:cubicBezTo>
                  <a:pt x="7595" y="16455"/>
                  <a:pt x="7700" y="16358"/>
                  <a:pt x="7789" y="16247"/>
                </a:cubicBezTo>
                <a:cubicBezTo>
                  <a:pt x="7838" y="16186"/>
                  <a:pt x="7926" y="16059"/>
                  <a:pt x="7938" y="15974"/>
                </a:cubicBezTo>
                <a:cubicBezTo>
                  <a:pt x="7960" y="15822"/>
                  <a:pt x="7880" y="15680"/>
                  <a:pt x="7813" y="15553"/>
                </a:cubicBezTo>
                <a:cubicBezTo>
                  <a:pt x="7762" y="15456"/>
                  <a:pt x="7758" y="15431"/>
                  <a:pt x="7689" y="15354"/>
                </a:cubicBezTo>
                <a:cubicBezTo>
                  <a:pt x="7621" y="15278"/>
                  <a:pt x="7537" y="15217"/>
                  <a:pt x="7441" y="15180"/>
                </a:cubicBezTo>
                <a:cubicBezTo>
                  <a:pt x="7323" y="15134"/>
                  <a:pt x="7260" y="15144"/>
                  <a:pt x="7144" y="15156"/>
                </a:cubicBezTo>
                <a:cubicBezTo>
                  <a:pt x="6993" y="15171"/>
                  <a:pt x="6886" y="15169"/>
                  <a:pt x="6747" y="15255"/>
                </a:cubicBezTo>
                <a:cubicBezTo>
                  <a:pt x="6664" y="15306"/>
                  <a:pt x="6651" y="15395"/>
                  <a:pt x="6623" y="15478"/>
                </a:cubicBezTo>
              </a:path>
              <a:path w="13991" h="3250">
                <a:moveTo>
                  <a:pt x="17239" y="16197"/>
                </a:moveTo>
                <a:cubicBezTo>
                  <a:pt x="17329" y="16162"/>
                  <a:pt x="17520" y="16175"/>
                  <a:pt x="17636" y="16173"/>
                </a:cubicBezTo>
                <a:cubicBezTo>
                  <a:pt x="17718" y="16171"/>
                  <a:pt x="17857" y="16198"/>
                  <a:pt x="17909" y="16173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81840" y="5607000"/>
            <a:ext cx="598320" cy="430200"/>
          </a:xfrm>
          <a:custGeom>
            <a:avLst/>
            <a:gdLst/>
            <a:ahLst/>
            <a:rect l="l" t="t" r="r" b="b"/>
            <a:pathLst>
              <a:path w="1663" h="1192">
                <a:moveTo>
                  <a:pt x="17115" y="16520"/>
                </a:moveTo>
                <a:cubicBezTo>
                  <a:pt x="17106" y="16605"/>
                  <a:pt x="17102" y="16613"/>
                  <a:pt x="17239" y="16694"/>
                </a:cubicBezTo>
                <a:cubicBezTo>
                  <a:pt x="17444" y="16814"/>
                  <a:pt x="17713" y="16763"/>
                  <a:pt x="17934" y="16718"/>
                </a:cubicBezTo>
                <a:cubicBezTo>
                  <a:pt x="18161" y="16672"/>
                  <a:pt x="18307" y="16585"/>
                  <a:pt x="18430" y="16396"/>
                </a:cubicBezTo>
                <a:cubicBezTo>
                  <a:pt x="18515" y="16265"/>
                  <a:pt x="18618" y="16084"/>
                  <a:pt x="18529" y="15925"/>
                </a:cubicBezTo>
                <a:cubicBezTo>
                  <a:pt x="18448" y="15780"/>
                  <a:pt x="18208" y="15651"/>
                  <a:pt x="18058" y="15602"/>
                </a:cubicBezTo>
                <a:cubicBezTo>
                  <a:pt x="17908" y="15553"/>
                  <a:pt x="17638" y="15548"/>
                  <a:pt x="17487" y="15577"/>
                </a:cubicBezTo>
                <a:cubicBezTo>
                  <a:pt x="17328" y="15608"/>
                  <a:pt x="17196" y="15713"/>
                  <a:pt x="17066" y="15801"/>
                </a:cubicBezTo>
                <a:cubicBezTo>
                  <a:pt x="16977" y="15861"/>
                  <a:pt x="16909" y="16010"/>
                  <a:pt x="16892" y="16123"/>
                </a:cubicBezTo>
                <a:cubicBezTo>
                  <a:pt x="16868" y="16283"/>
                  <a:pt x="16911" y="16409"/>
                  <a:pt x="16991" y="16545"/>
                </a:cubicBezTo>
                <a:cubicBezTo>
                  <a:pt x="17054" y="16653"/>
                  <a:pt x="17162" y="16708"/>
                  <a:pt x="17289" y="16669"/>
                </a:cubicBezTo>
                <a:cubicBezTo>
                  <a:pt x="17335" y="16669"/>
                  <a:pt x="17362" y="16657"/>
                  <a:pt x="17388" y="16619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52760" y="5464080"/>
            <a:ext cx="5929200" cy="81000"/>
          </a:xfrm>
          <a:custGeom>
            <a:avLst/>
            <a:gdLst/>
            <a:ahLst/>
            <a:rect l="l" t="t" r="r" b="b"/>
            <a:pathLst>
              <a:path w="16471" h="225">
                <a:moveTo>
                  <a:pt x="4589" y="15354"/>
                </a:moveTo>
                <a:cubicBezTo>
                  <a:pt x="4904" y="15323"/>
                  <a:pt x="5215" y="15292"/>
                  <a:pt x="5531" y="15280"/>
                </a:cubicBezTo>
                <a:cubicBezTo>
                  <a:pt x="6583" y="15242"/>
                  <a:pt x="7632" y="15329"/>
                  <a:pt x="8682" y="15329"/>
                </a:cubicBezTo>
                <a:cubicBezTo>
                  <a:pt x="9037" y="15329"/>
                  <a:pt x="9394" y="15326"/>
                  <a:pt x="9748" y="15354"/>
                </a:cubicBezTo>
                <a:cubicBezTo>
                  <a:pt x="10145" y="15385"/>
                  <a:pt x="10516" y="15396"/>
                  <a:pt x="10914" y="15379"/>
                </a:cubicBezTo>
                <a:cubicBezTo>
                  <a:pt x="11254" y="15365"/>
                  <a:pt x="11590" y="15332"/>
                  <a:pt x="11931" y="15329"/>
                </a:cubicBezTo>
                <a:cubicBezTo>
                  <a:pt x="12590" y="15323"/>
                  <a:pt x="13259" y="15310"/>
                  <a:pt x="13915" y="15329"/>
                </a:cubicBezTo>
                <a:cubicBezTo>
                  <a:pt x="14273" y="15340"/>
                  <a:pt x="14624" y="15355"/>
                  <a:pt x="14982" y="15329"/>
                </a:cubicBezTo>
                <a:cubicBezTo>
                  <a:pt x="15604" y="15284"/>
                  <a:pt x="16219" y="15219"/>
                  <a:pt x="16842" y="15205"/>
                </a:cubicBezTo>
                <a:cubicBezTo>
                  <a:pt x="17249" y="15196"/>
                  <a:pt x="17651" y="15181"/>
                  <a:pt x="18058" y="15205"/>
                </a:cubicBezTo>
                <a:cubicBezTo>
                  <a:pt x="18747" y="15246"/>
                  <a:pt x="19426" y="15299"/>
                  <a:pt x="20117" y="15304"/>
                </a:cubicBezTo>
                <a:cubicBezTo>
                  <a:pt x="20316" y="15305"/>
                  <a:pt x="20519" y="15285"/>
                  <a:pt x="20712" y="15280"/>
                </a:cubicBezTo>
                <a:cubicBezTo>
                  <a:pt x="20836" y="15277"/>
                  <a:pt x="20918" y="15323"/>
                  <a:pt x="21034" y="15280"/>
                </a:cubicBezTo>
                <a:cubicBezTo>
                  <a:pt x="21018" y="15263"/>
                  <a:pt x="21001" y="15247"/>
                  <a:pt x="20985" y="15230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Verdana"/>
              </a:rPr>
              <a:t>Objective:  Students will Estimate Decimal Products and Quotients</a:t>
            </a:r>
            <a:endParaRPr b="0" lang="en-US" sz="16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To estimate products or quotients, we will use rounding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Verdana"/>
              </a:rPr>
              <a:t>Examples: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Verdana"/>
              </a:rPr>
              <a:t>1.) Estimate 38.9 x 11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Verdana"/>
              </a:rPr>
              <a:t>2.) </a:t>
            </a: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Estimate 492.1 ÷ 21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3.) Would an answer of 12.3 be a </a:t>
            </a: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reasonable answer for #2?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5965920" y="1643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570" y="4564"/>
                </a:moveTo>
                <a:lnTo>
                  <a:pt x="16570" y="4564"/>
                </a:ln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79960" y="1616040"/>
            <a:ext cx="419040" cy="304920"/>
          </a:xfrm>
          <a:custGeom>
            <a:avLst/>
            <a:gdLst/>
            <a:ahLst/>
            <a:rect l="l" t="t" r="r" b="b"/>
            <a:pathLst>
              <a:path w="1166" h="844">
                <a:moveTo>
                  <a:pt x="11633" y="4564"/>
                </a:moveTo>
                <a:cubicBezTo>
                  <a:pt x="11727" y="4517"/>
                  <a:pt x="11779" y="4503"/>
                  <a:pt x="11881" y="4490"/>
                </a:cubicBezTo>
                <a:cubicBezTo>
                  <a:pt x="11944" y="4678"/>
                  <a:pt x="11903" y="4731"/>
                  <a:pt x="11757" y="4862"/>
                </a:cubicBezTo>
                <a:cubicBezTo>
                  <a:pt x="11749" y="4870"/>
                  <a:pt x="11741" y="4879"/>
                  <a:pt x="11733" y="4887"/>
                </a:cubicBezTo>
                <a:cubicBezTo>
                  <a:pt x="11830" y="4887"/>
                  <a:pt x="11883" y="4821"/>
                  <a:pt x="11981" y="4911"/>
                </a:cubicBezTo>
                <a:cubicBezTo>
                  <a:pt x="12195" y="5108"/>
                  <a:pt x="12012" y="5299"/>
                  <a:pt x="11782" y="5308"/>
                </a:cubicBezTo>
                <a:cubicBezTo>
                  <a:pt x="11683" y="5288"/>
                  <a:pt x="11668" y="5280"/>
                  <a:pt x="11609" y="5283"/>
                </a:cubicBezTo>
              </a:path>
              <a:path w="1166" h="844">
                <a:moveTo>
                  <a:pt x="12725" y="4812"/>
                </a:moveTo>
                <a:cubicBezTo>
                  <a:pt x="12708" y="4710"/>
                  <a:pt x="12671" y="4640"/>
                  <a:pt x="12576" y="4589"/>
                </a:cubicBezTo>
                <a:cubicBezTo>
                  <a:pt x="12432" y="4511"/>
                  <a:pt x="12274" y="4572"/>
                  <a:pt x="12179" y="4688"/>
                </a:cubicBezTo>
                <a:cubicBezTo>
                  <a:pt x="12063" y="4831"/>
                  <a:pt x="12107" y="5053"/>
                  <a:pt x="12328" y="5035"/>
                </a:cubicBezTo>
                <a:cubicBezTo>
                  <a:pt x="12530" y="5018"/>
                  <a:pt x="12607" y="4889"/>
                  <a:pt x="12626" y="4713"/>
                </a:cubicBezTo>
                <a:cubicBezTo>
                  <a:pt x="12631" y="4664"/>
                  <a:pt x="12609" y="4690"/>
                  <a:pt x="12601" y="4713"/>
                </a:cubicBezTo>
                <a:cubicBezTo>
                  <a:pt x="12635" y="4910"/>
                  <a:pt x="12660" y="5125"/>
                  <a:pt x="12750" y="5308"/>
                </a:cubicBezTo>
                <a:cubicBezTo>
                  <a:pt x="12758" y="5316"/>
                  <a:pt x="12766" y="5325"/>
                  <a:pt x="12774" y="5333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99040" y="1731960"/>
            <a:ext cx="160200" cy="287280"/>
          </a:xfrm>
          <a:custGeom>
            <a:avLst/>
            <a:gdLst/>
            <a:ahLst/>
            <a:rect l="l" t="t" r="r" b="b"/>
            <a:pathLst>
              <a:path w="448" h="795">
                <a:moveTo>
                  <a:pt x="14188" y="4812"/>
                </a:moveTo>
                <a:cubicBezTo>
                  <a:pt x="14298" y="4839"/>
                  <a:pt x="14415" y="5048"/>
                  <a:pt x="14486" y="5135"/>
                </a:cubicBezTo>
                <a:cubicBezTo>
                  <a:pt x="14644" y="5329"/>
                  <a:pt x="14624" y="5297"/>
                  <a:pt x="14560" y="5085"/>
                </a:cubicBezTo>
              </a:path>
              <a:path w="448" h="795">
                <a:moveTo>
                  <a:pt x="14585" y="4812"/>
                </a:moveTo>
                <a:cubicBezTo>
                  <a:pt x="14462" y="5044"/>
                  <a:pt x="14317" y="5269"/>
                  <a:pt x="14213" y="5507"/>
                </a:cubicBezTo>
                <a:cubicBezTo>
                  <a:pt x="14176" y="5592"/>
                  <a:pt x="14207" y="5649"/>
                  <a:pt x="14163" y="5531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8000" y="1608120"/>
            <a:ext cx="46080" cy="204840"/>
          </a:xfrm>
          <a:custGeom>
            <a:avLst/>
            <a:gdLst/>
            <a:ahLst/>
            <a:rect l="l" t="t" r="r" b="b"/>
            <a:pathLst>
              <a:path w="125" h="571">
                <a:moveTo>
                  <a:pt x="15801" y="4490"/>
                </a:moveTo>
                <a:cubicBezTo>
                  <a:pt x="15801" y="4482"/>
                  <a:pt x="15801" y="4473"/>
                  <a:pt x="15801" y="4465"/>
                </a:cubicBezTo>
                <a:cubicBezTo>
                  <a:pt x="15864" y="4610"/>
                  <a:pt x="15898" y="4798"/>
                  <a:pt x="15925" y="4961"/>
                </a:cubicBezTo>
                <a:cubicBezTo>
                  <a:pt x="15929" y="4984"/>
                  <a:pt x="15925" y="5012"/>
                  <a:pt x="15925" y="5035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02200" y="1643040"/>
            <a:ext cx="169920" cy="187200"/>
          </a:xfrm>
          <a:custGeom>
            <a:avLst/>
            <a:gdLst/>
            <a:ahLst/>
            <a:rect l="l" t="t" r="r" b="b"/>
            <a:pathLst>
              <a:path w="472" h="522">
                <a:moveTo>
                  <a:pt x="16495" y="4589"/>
                </a:moveTo>
                <a:cubicBezTo>
                  <a:pt x="16473" y="4589"/>
                  <a:pt x="16406" y="4704"/>
                  <a:pt x="16396" y="4787"/>
                </a:cubicBezTo>
                <a:cubicBezTo>
                  <a:pt x="16386" y="4865"/>
                  <a:pt x="16396" y="5063"/>
                  <a:pt x="16495" y="5085"/>
                </a:cubicBezTo>
                <a:cubicBezTo>
                  <a:pt x="16590" y="5106"/>
                  <a:pt x="16725" y="5083"/>
                  <a:pt x="16793" y="5011"/>
                </a:cubicBezTo>
                <a:cubicBezTo>
                  <a:pt x="16863" y="4936"/>
                  <a:pt x="16888" y="4855"/>
                  <a:pt x="16842" y="4762"/>
                </a:cubicBezTo>
                <a:cubicBezTo>
                  <a:pt x="16823" y="4724"/>
                  <a:pt x="16764" y="4680"/>
                  <a:pt x="16743" y="4663"/>
                </a:cubicBezTo>
                <a:cubicBezTo>
                  <a:pt x="16705" y="4633"/>
                  <a:pt x="16668" y="4607"/>
                  <a:pt x="16644" y="4589"/>
                </a:cubicBezTo>
                <a:cubicBezTo>
                  <a:pt x="16609" y="4563"/>
                  <a:pt x="16613" y="4564"/>
                  <a:pt x="16570" y="456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02240" y="1704960"/>
            <a:ext cx="152640" cy="90360"/>
          </a:xfrm>
          <a:custGeom>
            <a:avLst/>
            <a:gdLst/>
            <a:ahLst/>
            <a:rect l="l" t="t" r="r" b="b"/>
            <a:pathLst>
              <a:path w="423" h="249">
                <a:moveTo>
                  <a:pt x="17785" y="4738"/>
                </a:moveTo>
                <a:cubicBezTo>
                  <a:pt x="17808" y="4803"/>
                  <a:pt x="17986" y="4741"/>
                  <a:pt x="18033" y="4738"/>
                </a:cubicBezTo>
                <a:cubicBezTo>
                  <a:pt x="18107" y="4738"/>
                  <a:pt x="18116" y="4738"/>
                  <a:pt x="18157" y="4738"/>
                </a:cubicBezTo>
              </a:path>
              <a:path w="423" h="249">
                <a:moveTo>
                  <a:pt x="17909" y="4986"/>
                </a:moveTo>
                <a:cubicBezTo>
                  <a:pt x="18008" y="4986"/>
                  <a:pt x="18108" y="4986"/>
                  <a:pt x="18207" y="4986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42080" y="1581120"/>
            <a:ext cx="687600" cy="285840"/>
          </a:xfrm>
          <a:custGeom>
            <a:avLst/>
            <a:gdLst/>
            <a:ahLst/>
            <a:rect l="l" t="t" r="r" b="b"/>
            <a:pathLst>
              <a:path w="1911" h="795">
                <a:moveTo>
                  <a:pt x="18827" y="4614"/>
                </a:moveTo>
                <a:cubicBezTo>
                  <a:pt x="18827" y="4657"/>
                  <a:pt x="18915" y="4541"/>
                  <a:pt x="18951" y="4514"/>
                </a:cubicBezTo>
                <a:cubicBezTo>
                  <a:pt x="19086" y="4410"/>
                  <a:pt x="19156" y="4512"/>
                  <a:pt x="19100" y="4663"/>
                </a:cubicBezTo>
                <a:cubicBezTo>
                  <a:pt x="19061" y="4769"/>
                  <a:pt x="19018" y="4806"/>
                  <a:pt x="18926" y="4837"/>
                </a:cubicBezTo>
                <a:cubicBezTo>
                  <a:pt x="19005" y="4837"/>
                  <a:pt x="19148" y="4871"/>
                  <a:pt x="19174" y="4961"/>
                </a:cubicBezTo>
                <a:cubicBezTo>
                  <a:pt x="19236" y="5175"/>
                  <a:pt x="18914" y="5184"/>
                  <a:pt x="18802" y="5159"/>
                </a:cubicBezTo>
                <a:cubicBezTo>
                  <a:pt x="18761" y="5140"/>
                  <a:pt x="18755" y="5132"/>
                  <a:pt x="18728" y="5135"/>
                </a:cubicBezTo>
              </a:path>
              <a:path w="1911" h="795">
                <a:moveTo>
                  <a:pt x="19819" y="4663"/>
                </a:moveTo>
                <a:cubicBezTo>
                  <a:pt x="19773" y="4561"/>
                  <a:pt x="19719" y="4427"/>
                  <a:pt x="19596" y="4390"/>
                </a:cubicBezTo>
                <a:cubicBezTo>
                  <a:pt x="19376" y="4324"/>
                  <a:pt x="19284" y="4594"/>
                  <a:pt x="19323" y="4762"/>
                </a:cubicBezTo>
                <a:cubicBezTo>
                  <a:pt x="19339" y="4779"/>
                  <a:pt x="19356" y="4795"/>
                  <a:pt x="19372" y="4812"/>
                </a:cubicBezTo>
                <a:cubicBezTo>
                  <a:pt x="19516" y="4761"/>
                  <a:pt x="19600" y="4747"/>
                  <a:pt x="19645" y="4589"/>
                </a:cubicBezTo>
                <a:cubicBezTo>
                  <a:pt x="19720" y="4614"/>
                  <a:pt x="19738" y="4881"/>
                  <a:pt x="19745" y="4961"/>
                </a:cubicBezTo>
                <a:cubicBezTo>
                  <a:pt x="19745" y="5072"/>
                  <a:pt x="19719" y="5094"/>
                  <a:pt x="19769" y="5135"/>
                </a:cubicBezTo>
              </a:path>
              <a:path w="1911" h="795">
                <a:moveTo>
                  <a:pt x="20340" y="4564"/>
                </a:moveTo>
                <a:cubicBezTo>
                  <a:pt x="20225" y="4666"/>
                  <a:pt x="20141" y="4819"/>
                  <a:pt x="20141" y="4986"/>
                </a:cubicBezTo>
                <a:cubicBezTo>
                  <a:pt x="20141" y="5155"/>
                  <a:pt x="20348" y="5105"/>
                  <a:pt x="20439" y="5060"/>
                </a:cubicBezTo>
                <a:cubicBezTo>
                  <a:pt x="20569" y="4995"/>
                  <a:pt x="20619" y="4881"/>
                  <a:pt x="20613" y="4762"/>
                </a:cubicBezTo>
                <a:cubicBezTo>
                  <a:pt x="20610" y="4698"/>
                  <a:pt x="20569" y="4630"/>
                  <a:pt x="20513" y="4589"/>
                </a:cubicBezTo>
                <a:cubicBezTo>
                  <a:pt x="20467" y="4555"/>
                  <a:pt x="20437" y="4560"/>
                  <a:pt x="20414" y="451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37120" y="2625840"/>
            <a:ext cx="1231920" cy="268200"/>
          </a:xfrm>
          <a:custGeom>
            <a:avLst/>
            <a:gdLst/>
            <a:ahLst/>
            <a:rect l="l" t="t" r="r" b="b"/>
            <a:pathLst>
              <a:path w="3424" h="745">
                <a:moveTo>
                  <a:pt x="14362" y="7342"/>
                </a:moveTo>
                <a:cubicBezTo>
                  <a:pt x="14234" y="7556"/>
                  <a:pt x="14074" y="7774"/>
                  <a:pt x="13990" y="8012"/>
                </a:cubicBezTo>
                <a:cubicBezTo>
                  <a:pt x="13990" y="8020"/>
                  <a:pt x="13990" y="8029"/>
                  <a:pt x="13990" y="8037"/>
                </a:cubicBezTo>
              </a:path>
              <a:path w="3424" h="745">
                <a:moveTo>
                  <a:pt x="17115" y="7367"/>
                </a:moveTo>
                <a:cubicBezTo>
                  <a:pt x="17199" y="7343"/>
                  <a:pt x="17282" y="7322"/>
                  <a:pt x="17363" y="7293"/>
                </a:cubicBezTo>
              </a:path>
              <a:path w="3424" h="745">
                <a:moveTo>
                  <a:pt x="17239" y="7491"/>
                </a:moveTo>
                <a:cubicBezTo>
                  <a:pt x="17331" y="7468"/>
                  <a:pt x="17356" y="7462"/>
                  <a:pt x="17413" y="7441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55840" y="2419200"/>
            <a:ext cx="4375080" cy="411480"/>
          </a:xfrm>
          <a:custGeom>
            <a:avLst/>
            <a:gdLst/>
            <a:ahLst/>
            <a:rect l="l" t="t" r="r" b="b"/>
            <a:pathLst>
              <a:path w="12155" h="1142">
                <a:moveTo>
                  <a:pt x="4043" y="7020"/>
                </a:moveTo>
                <a:cubicBezTo>
                  <a:pt x="4135" y="7097"/>
                  <a:pt x="4183" y="7153"/>
                  <a:pt x="4316" y="7144"/>
                </a:cubicBezTo>
                <a:cubicBezTo>
                  <a:pt x="4463" y="7134"/>
                  <a:pt x="4576" y="7063"/>
                  <a:pt x="4688" y="6995"/>
                </a:cubicBezTo>
                <a:cubicBezTo>
                  <a:pt x="4795" y="7095"/>
                  <a:pt x="4832" y="7147"/>
                  <a:pt x="5011" y="7094"/>
                </a:cubicBezTo>
                <a:cubicBezTo>
                  <a:pt x="5267" y="7018"/>
                  <a:pt x="5002" y="7020"/>
                  <a:pt x="5259" y="7094"/>
                </a:cubicBezTo>
                <a:cubicBezTo>
                  <a:pt x="5459" y="7152"/>
                  <a:pt x="5579" y="7086"/>
                  <a:pt x="5755" y="6995"/>
                </a:cubicBezTo>
                <a:cubicBezTo>
                  <a:pt x="5771" y="6987"/>
                  <a:pt x="5788" y="6978"/>
                  <a:pt x="5804" y="6970"/>
                </a:cubicBezTo>
                <a:cubicBezTo>
                  <a:pt x="5894" y="7114"/>
                  <a:pt x="5876" y="7143"/>
                  <a:pt x="6077" y="7069"/>
                </a:cubicBezTo>
                <a:cubicBezTo>
                  <a:pt x="6151" y="7042"/>
                  <a:pt x="6404" y="6920"/>
                  <a:pt x="6424" y="6921"/>
                </a:cubicBezTo>
                <a:cubicBezTo>
                  <a:pt x="6535" y="6928"/>
                  <a:pt x="6618" y="7055"/>
                  <a:pt x="6772" y="7020"/>
                </a:cubicBezTo>
                <a:cubicBezTo>
                  <a:pt x="6849" y="7003"/>
                  <a:pt x="6949" y="6923"/>
                  <a:pt x="6995" y="6896"/>
                </a:cubicBezTo>
                <a:cubicBezTo>
                  <a:pt x="7054" y="6994"/>
                  <a:pt x="7090" y="7108"/>
                  <a:pt x="7243" y="7094"/>
                </a:cubicBezTo>
                <a:cubicBezTo>
                  <a:pt x="7365" y="7083"/>
                  <a:pt x="7469" y="6977"/>
                  <a:pt x="7565" y="6921"/>
                </a:cubicBezTo>
                <a:cubicBezTo>
                  <a:pt x="7613" y="6984"/>
                  <a:pt x="7617" y="7072"/>
                  <a:pt x="7739" y="7094"/>
                </a:cubicBezTo>
                <a:cubicBezTo>
                  <a:pt x="7920" y="7126"/>
                  <a:pt x="8081" y="6971"/>
                  <a:pt x="8235" y="6995"/>
                </a:cubicBezTo>
                <a:cubicBezTo>
                  <a:pt x="8364" y="7015"/>
                  <a:pt x="8456" y="7144"/>
                  <a:pt x="8632" y="7094"/>
                </a:cubicBezTo>
                <a:cubicBezTo>
                  <a:pt x="8718" y="7070"/>
                  <a:pt x="8778" y="6990"/>
                  <a:pt x="8830" y="6945"/>
                </a:cubicBezTo>
                <a:cubicBezTo>
                  <a:pt x="8965" y="7026"/>
                  <a:pt x="9005" y="7106"/>
                  <a:pt x="9203" y="6970"/>
                </a:cubicBezTo>
                <a:cubicBezTo>
                  <a:pt x="9350" y="6869"/>
                  <a:pt x="9222" y="6905"/>
                  <a:pt x="9277" y="6821"/>
                </a:cubicBezTo>
                <a:cubicBezTo>
                  <a:pt x="9375" y="6830"/>
                  <a:pt x="9417" y="6837"/>
                  <a:pt x="9525" y="6821"/>
                </a:cubicBezTo>
                <a:cubicBezTo>
                  <a:pt x="9624" y="6806"/>
                  <a:pt x="9667" y="6825"/>
                  <a:pt x="9798" y="6821"/>
                </a:cubicBezTo>
                <a:cubicBezTo>
                  <a:pt x="9930" y="6817"/>
                  <a:pt x="9888" y="6781"/>
                  <a:pt x="9947" y="6722"/>
                </a:cubicBezTo>
              </a:path>
              <a:path w="12155" h="1142">
                <a:moveTo>
                  <a:pt x="11708" y="7045"/>
                </a:moveTo>
                <a:cubicBezTo>
                  <a:pt x="11807" y="7011"/>
                  <a:pt x="11653" y="7303"/>
                  <a:pt x="11633" y="7342"/>
                </a:cubicBezTo>
                <a:cubicBezTo>
                  <a:pt x="11591" y="7406"/>
                  <a:pt x="11575" y="7444"/>
                  <a:pt x="11584" y="7367"/>
                </a:cubicBezTo>
                <a:cubicBezTo>
                  <a:pt x="11683" y="7284"/>
                  <a:pt x="11758" y="7286"/>
                  <a:pt x="11881" y="7342"/>
                </a:cubicBezTo>
                <a:cubicBezTo>
                  <a:pt x="11996" y="7394"/>
                  <a:pt x="12027" y="7420"/>
                  <a:pt x="12129" y="7342"/>
                </a:cubicBezTo>
              </a:path>
              <a:path w="12155" h="1142">
                <a:moveTo>
                  <a:pt x="12030" y="7020"/>
                </a:moveTo>
                <a:cubicBezTo>
                  <a:pt x="12040" y="7244"/>
                  <a:pt x="12055" y="7464"/>
                  <a:pt x="12055" y="7689"/>
                </a:cubicBezTo>
                <a:cubicBezTo>
                  <a:pt x="12055" y="7724"/>
                  <a:pt x="12064" y="7728"/>
                  <a:pt x="12105" y="7689"/>
                </a:cubicBezTo>
              </a:path>
              <a:path w="12155" h="1142">
                <a:moveTo>
                  <a:pt x="12650" y="7119"/>
                </a:moveTo>
                <a:cubicBezTo>
                  <a:pt x="12534" y="7132"/>
                  <a:pt x="12487" y="7163"/>
                  <a:pt x="12427" y="7268"/>
                </a:cubicBezTo>
                <a:cubicBezTo>
                  <a:pt x="12345" y="7409"/>
                  <a:pt x="12333" y="7559"/>
                  <a:pt x="12378" y="7714"/>
                </a:cubicBezTo>
                <a:cubicBezTo>
                  <a:pt x="12409" y="7820"/>
                  <a:pt x="12611" y="7765"/>
                  <a:pt x="12675" y="7714"/>
                </a:cubicBezTo>
                <a:cubicBezTo>
                  <a:pt x="12763" y="7643"/>
                  <a:pt x="12774" y="7542"/>
                  <a:pt x="12774" y="7441"/>
                </a:cubicBezTo>
                <a:cubicBezTo>
                  <a:pt x="12774" y="7386"/>
                  <a:pt x="12778" y="7315"/>
                  <a:pt x="12750" y="7268"/>
                </a:cubicBezTo>
                <a:cubicBezTo>
                  <a:pt x="12718" y="7214"/>
                  <a:pt x="12646" y="7164"/>
                  <a:pt x="12601" y="7119"/>
                </a:cubicBezTo>
              </a:path>
              <a:path w="12155" h="1142">
                <a:moveTo>
                  <a:pt x="14015" y="7392"/>
                </a:moveTo>
                <a:cubicBezTo>
                  <a:pt x="14123" y="7446"/>
                  <a:pt x="14235" y="7638"/>
                  <a:pt x="14312" y="7739"/>
                </a:cubicBezTo>
                <a:cubicBezTo>
                  <a:pt x="14351" y="7791"/>
                  <a:pt x="14390" y="7882"/>
                  <a:pt x="14412" y="7838"/>
                </a:cubicBezTo>
              </a:path>
              <a:path w="12155" h="1142">
                <a:moveTo>
                  <a:pt x="15602" y="7218"/>
                </a:moveTo>
                <a:cubicBezTo>
                  <a:pt x="15602" y="7145"/>
                  <a:pt x="15626" y="7483"/>
                  <a:pt x="15627" y="7491"/>
                </a:cubicBezTo>
                <a:cubicBezTo>
                  <a:pt x="15641" y="7582"/>
                  <a:pt x="15664" y="7673"/>
                  <a:pt x="15677" y="7764"/>
                </a:cubicBezTo>
              </a:path>
              <a:path w="12155" h="1142">
                <a:moveTo>
                  <a:pt x="16098" y="7268"/>
                </a:moveTo>
                <a:cubicBezTo>
                  <a:pt x="16098" y="7242"/>
                  <a:pt x="16158" y="7530"/>
                  <a:pt x="16173" y="7590"/>
                </a:cubicBezTo>
                <a:cubicBezTo>
                  <a:pt x="16191" y="7681"/>
                  <a:pt x="16199" y="7688"/>
                  <a:pt x="16197" y="7739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65960" y="2482920"/>
            <a:ext cx="507960" cy="231840"/>
          </a:xfrm>
          <a:custGeom>
            <a:avLst/>
            <a:gdLst/>
            <a:ahLst/>
            <a:rect l="l" t="t" r="r" b="b"/>
            <a:pathLst>
              <a:path w="1414" h="646">
                <a:moveTo>
                  <a:pt x="17983" y="7069"/>
                </a:moveTo>
                <a:cubicBezTo>
                  <a:pt x="17962" y="7169"/>
                  <a:pt x="17922" y="7264"/>
                  <a:pt x="18083" y="7268"/>
                </a:cubicBezTo>
                <a:cubicBezTo>
                  <a:pt x="18199" y="7245"/>
                  <a:pt x="18232" y="7238"/>
                  <a:pt x="18306" y="7218"/>
                </a:cubicBezTo>
              </a:path>
              <a:path w="1414" h="646">
                <a:moveTo>
                  <a:pt x="18256" y="7020"/>
                </a:moveTo>
                <a:cubicBezTo>
                  <a:pt x="18262" y="7070"/>
                  <a:pt x="18340" y="7514"/>
                  <a:pt x="18306" y="7541"/>
                </a:cubicBezTo>
                <a:cubicBezTo>
                  <a:pt x="18289" y="7533"/>
                  <a:pt x="18273" y="7524"/>
                  <a:pt x="18256" y="7516"/>
                </a:cubicBezTo>
              </a:path>
              <a:path w="1414" h="646">
                <a:moveTo>
                  <a:pt x="18504" y="6995"/>
                </a:moveTo>
                <a:cubicBezTo>
                  <a:pt x="18519" y="7056"/>
                  <a:pt x="18529" y="7235"/>
                  <a:pt x="18604" y="7243"/>
                </a:cubicBezTo>
                <a:cubicBezTo>
                  <a:pt x="18687" y="7252"/>
                  <a:pt x="18753" y="7223"/>
                  <a:pt x="18827" y="7193"/>
                </a:cubicBezTo>
              </a:path>
              <a:path w="1414" h="646">
                <a:moveTo>
                  <a:pt x="18777" y="6896"/>
                </a:moveTo>
                <a:cubicBezTo>
                  <a:pt x="18795" y="7053"/>
                  <a:pt x="18814" y="7210"/>
                  <a:pt x="18827" y="7367"/>
                </a:cubicBezTo>
                <a:cubicBezTo>
                  <a:pt x="18827" y="7424"/>
                  <a:pt x="18827" y="7466"/>
                  <a:pt x="18827" y="7417"/>
                </a:cubicBezTo>
              </a:path>
              <a:path w="1414" h="646">
                <a:moveTo>
                  <a:pt x="19124" y="6945"/>
                </a:moveTo>
                <a:cubicBezTo>
                  <a:pt x="19018" y="7123"/>
                  <a:pt x="18969" y="7199"/>
                  <a:pt x="19025" y="7392"/>
                </a:cubicBezTo>
                <a:cubicBezTo>
                  <a:pt x="19193" y="7392"/>
                  <a:pt x="19407" y="7351"/>
                  <a:pt x="19372" y="7119"/>
                </a:cubicBezTo>
                <a:cubicBezTo>
                  <a:pt x="19346" y="6944"/>
                  <a:pt x="19229" y="6942"/>
                  <a:pt x="19100" y="6970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48080" y="3009960"/>
            <a:ext cx="1465200" cy="214200"/>
          </a:xfrm>
          <a:custGeom>
            <a:avLst/>
            <a:gdLst/>
            <a:ahLst/>
            <a:rect l="l" t="t" r="r" b="b"/>
            <a:pathLst>
              <a:path w="4069" h="596">
                <a:moveTo>
                  <a:pt x="12080" y="8434"/>
                </a:moveTo>
                <a:cubicBezTo>
                  <a:pt x="12108" y="8596"/>
                  <a:pt x="12097" y="8810"/>
                  <a:pt x="12179" y="8954"/>
                </a:cubicBezTo>
                <a:cubicBezTo>
                  <a:pt x="12179" y="8946"/>
                  <a:pt x="12179" y="8938"/>
                  <a:pt x="12179" y="8930"/>
                </a:cubicBezTo>
              </a:path>
              <a:path w="4069" h="596">
                <a:moveTo>
                  <a:pt x="16148" y="8359"/>
                </a:moveTo>
                <a:lnTo>
                  <a:pt x="16148" y="8359"/>
                </a:ln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41880" y="3017880"/>
            <a:ext cx="322200" cy="233280"/>
          </a:xfrm>
          <a:custGeom>
            <a:avLst/>
            <a:gdLst/>
            <a:ahLst/>
            <a:rect l="l" t="t" r="r" b="b"/>
            <a:pathLst>
              <a:path w="894" h="646">
                <a:moveTo>
                  <a:pt x="11832" y="8607"/>
                </a:moveTo>
                <a:cubicBezTo>
                  <a:pt x="11842" y="8703"/>
                  <a:pt x="11714" y="8787"/>
                  <a:pt x="11782" y="8855"/>
                </a:cubicBezTo>
                <a:cubicBezTo>
                  <a:pt x="11807" y="8880"/>
                  <a:pt x="12122" y="8809"/>
                  <a:pt x="12179" y="8806"/>
                </a:cubicBezTo>
              </a:path>
              <a:path w="894" h="646">
                <a:moveTo>
                  <a:pt x="12526" y="8384"/>
                </a:moveTo>
                <a:cubicBezTo>
                  <a:pt x="12457" y="8563"/>
                  <a:pt x="12429" y="8662"/>
                  <a:pt x="12526" y="8830"/>
                </a:cubicBezTo>
                <a:cubicBezTo>
                  <a:pt x="12647" y="8762"/>
                  <a:pt x="12775" y="8576"/>
                  <a:pt x="12601" y="8434"/>
                </a:cubicBezTo>
                <a:cubicBezTo>
                  <a:pt x="12533" y="8434"/>
                  <a:pt x="12514" y="8431"/>
                  <a:pt x="12477" y="8458"/>
                </a:cubicBezTo>
              </a:path>
              <a:path w="894" h="646">
                <a:moveTo>
                  <a:pt x="12080" y="8855"/>
                </a:moveTo>
                <a:cubicBezTo>
                  <a:pt x="12080" y="8792"/>
                  <a:pt x="12160" y="8988"/>
                  <a:pt x="12179" y="9029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45040" y="3036960"/>
            <a:ext cx="142920" cy="160200"/>
          </a:xfrm>
          <a:custGeom>
            <a:avLst/>
            <a:gdLst/>
            <a:ahLst/>
            <a:rect l="l" t="t" r="r" b="b"/>
            <a:pathLst>
              <a:path w="398" h="447">
                <a:moveTo>
                  <a:pt x="14015" y="8558"/>
                </a:moveTo>
                <a:cubicBezTo>
                  <a:pt x="14103" y="8580"/>
                  <a:pt x="14249" y="8748"/>
                  <a:pt x="14312" y="8806"/>
                </a:cubicBezTo>
                <a:cubicBezTo>
                  <a:pt x="14368" y="8861"/>
                  <a:pt x="14366" y="8886"/>
                  <a:pt x="14412" y="8880"/>
                </a:cubicBezTo>
              </a:path>
              <a:path w="398" h="447">
                <a:moveTo>
                  <a:pt x="14387" y="8434"/>
                </a:moveTo>
                <a:cubicBezTo>
                  <a:pt x="14281" y="8565"/>
                  <a:pt x="14215" y="8717"/>
                  <a:pt x="14114" y="8855"/>
                </a:cubicBezTo>
                <a:cubicBezTo>
                  <a:pt x="14106" y="8863"/>
                  <a:pt x="14097" y="8872"/>
                  <a:pt x="14089" y="8880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81800" y="2982960"/>
            <a:ext cx="285480" cy="196920"/>
          </a:xfrm>
          <a:custGeom>
            <a:avLst/>
            <a:gdLst/>
            <a:ahLst/>
            <a:rect l="l" t="t" r="r" b="b"/>
            <a:pathLst>
              <a:path w="795" h="546">
                <a:moveTo>
                  <a:pt x="15503" y="8285"/>
                </a:moveTo>
                <a:cubicBezTo>
                  <a:pt x="15558" y="8303"/>
                  <a:pt x="15572" y="8539"/>
                  <a:pt x="15602" y="8607"/>
                </a:cubicBezTo>
                <a:cubicBezTo>
                  <a:pt x="15639" y="8693"/>
                  <a:pt x="15658" y="8712"/>
                  <a:pt x="15677" y="8806"/>
                </a:cubicBezTo>
                <a:cubicBezTo>
                  <a:pt x="15677" y="8830"/>
                  <a:pt x="15677" y="8838"/>
                  <a:pt x="15701" y="8830"/>
                </a:cubicBezTo>
              </a:path>
              <a:path w="795" h="546">
                <a:moveTo>
                  <a:pt x="16098" y="8409"/>
                </a:moveTo>
                <a:cubicBezTo>
                  <a:pt x="16079" y="8353"/>
                  <a:pt x="16001" y="8347"/>
                  <a:pt x="15949" y="8409"/>
                </a:cubicBezTo>
                <a:cubicBezTo>
                  <a:pt x="15868" y="8506"/>
                  <a:pt x="15818" y="8732"/>
                  <a:pt x="15999" y="8756"/>
                </a:cubicBezTo>
                <a:cubicBezTo>
                  <a:pt x="16142" y="8775"/>
                  <a:pt x="16297" y="8654"/>
                  <a:pt x="16297" y="8508"/>
                </a:cubicBezTo>
                <a:cubicBezTo>
                  <a:pt x="16297" y="8425"/>
                  <a:pt x="16243" y="8373"/>
                  <a:pt x="16173" y="8359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34040" y="3000240"/>
            <a:ext cx="108000" cy="63720"/>
          </a:xfrm>
          <a:custGeom>
            <a:avLst/>
            <a:gdLst/>
            <a:ahLst/>
            <a:rect l="l" t="t" r="r" b="b"/>
            <a:pathLst>
              <a:path w="298" h="175">
                <a:moveTo>
                  <a:pt x="17041" y="8359"/>
                </a:moveTo>
                <a:cubicBezTo>
                  <a:pt x="17133" y="8351"/>
                  <a:pt x="17221" y="8334"/>
                  <a:pt x="17314" y="8334"/>
                </a:cubicBezTo>
              </a:path>
              <a:path w="298" h="175">
                <a:moveTo>
                  <a:pt x="17115" y="8483"/>
                </a:moveTo>
                <a:cubicBezTo>
                  <a:pt x="17182" y="8523"/>
                  <a:pt x="17210" y="8490"/>
                  <a:pt x="17289" y="8483"/>
                </a:cubicBezTo>
                <a:cubicBezTo>
                  <a:pt x="17332" y="8479"/>
                  <a:pt x="17326" y="8496"/>
                  <a:pt x="17338" y="8458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83240" y="2884320"/>
            <a:ext cx="544680" cy="223920"/>
          </a:xfrm>
          <a:custGeom>
            <a:avLst/>
            <a:gdLst/>
            <a:ahLst/>
            <a:rect l="l" t="t" r="r" b="b"/>
            <a:pathLst>
              <a:path w="1514" h="621">
                <a:moveTo>
                  <a:pt x="18083" y="8235"/>
                </a:moveTo>
                <a:cubicBezTo>
                  <a:pt x="18083" y="8174"/>
                  <a:pt x="18010" y="8379"/>
                  <a:pt x="18008" y="8384"/>
                </a:cubicBezTo>
                <a:cubicBezTo>
                  <a:pt x="17973" y="8502"/>
                  <a:pt x="18273" y="8397"/>
                  <a:pt x="18331" y="8384"/>
                </a:cubicBezTo>
              </a:path>
              <a:path w="1514" h="621">
                <a:moveTo>
                  <a:pt x="18207" y="8086"/>
                </a:moveTo>
                <a:cubicBezTo>
                  <a:pt x="18244" y="8268"/>
                  <a:pt x="18268" y="8447"/>
                  <a:pt x="18281" y="8632"/>
                </a:cubicBezTo>
                <a:cubicBezTo>
                  <a:pt x="18281" y="8624"/>
                  <a:pt x="18281" y="8615"/>
                  <a:pt x="18281" y="8607"/>
                </a:cubicBezTo>
              </a:path>
              <a:path w="1514" h="621">
                <a:moveTo>
                  <a:pt x="18827" y="8037"/>
                </a:moveTo>
                <a:cubicBezTo>
                  <a:pt x="18675" y="8179"/>
                  <a:pt x="18627" y="8274"/>
                  <a:pt x="18604" y="8483"/>
                </a:cubicBezTo>
                <a:cubicBezTo>
                  <a:pt x="18747" y="8522"/>
                  <a:pt x="19001" y="8475"/>
                  <a:pt x="18926" y="8235"/>
                </a:cubicBezTo>
                <a:cubicBezTo>
                  <a:pt x="18896" y="8138"/>
                  <a:pt x="18779" y="8144"/>
                  <a:pt x="18703" y="8136"/>
                </a:cubicBezTo>
              </a:path>
              <a:path w="1514" h="621">
                <a:moveTo>
                  <a:pt x="19298" y="8012"/>
                </a:moveTo>
                <a:cubicBezTo>
                  <a:pt x="19201" y="8097"/>
                  <a:pt x="19105" y="8242"/>
                  <a:pt x="19100" y="8384"/>
                </a:cubicBezTo>
                <a:cubicBezTo>
                  <a:pt x="19108" y="8401"/>
                  <a:pt x="19116" y="8417"/>
                  <a:pt x="19124" y="8434"/>
                </a:cubicBezTo>
                <a:cubicBezTo>
                  <a:pt x="19274" y="8413"/>
                  <a:pt x="19631" y="8360"/>
                  <a:pt x="19496" y="8111"/>
                </a:cubicBezTo>
                <a:cubicBezTo>
                  <a:pt x="19436" y="8001"/>
                  <a:pt x="19335" y="8022"/>
                  <a:pt x="19248" y="8037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26040" y="4330800"/>
            <a:ext cx="169920" cy="179280"/>
          </a:xfrm>
          <a:custGeom>
            <a:avLst/>
            <a:gdLst/>
            <a:ahLst/>
            <a:rect l="l" t="t" r="r" b="b"/>
            <a:pathLst>
              <a:path w="472" h="497">
                <a:moveTo>
                  <a:pt x="14238" y="12278"/>
                </a:moveTo>
                <a:cubicBezTo>
                  <a:pt x="14373" y="12278"/>
                  <a:pt x="14501" y="12297"/>
                  <a:pt x="14635" y="12303"/>
                </a:cubicBezTo>
                <a:cubicBezTo>
                  <a:pt x="14688" y="12305"/>
                  <a:pt x="14672" y="12290"/>
                  <a:pt x="14709" y="12278"/>
                </a:cubicBezTo>
              </a:path>
              <a:path w="472" h="497">
                <a:moveTo>
                  <a:pt x="14436" y="12055"/>
                </a:moveTo>
                <a:cubicBezTo>
                  <a:pt x="14436" y="12030"/>
                  <a:pt x="14436" y="12022"/>
                  <a:pt x="14436" y="12055"/>
                </a:cubicBezTo>
              </a:path>
              <a:path w="472" h="497">
                <a:moveTo>
                  <a:pt x="14436" y="12502"/>
                </a:moveTo>
                <a:cubicBezTo>
                  <a:pt x="14436" y="12526"/>
                  <a:pt x="14436" y="12534"/>
                  <a:pt x="14436" y="12502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607000" y="4286160"/>
            <a:ext cx="376200" cy="223920"/>
          </a:xfrm>
          <a:custGeom>
            <a:avLst/>
            <a:gdLst/>
            <a:ahLst/>
            <a:rect l="l" t="t" r="r" b="b"/>
            <a:pathLst>
              <a:path w="1043" h="621">
                <a:moveTo>
                  <a:pt x="15677" y="12005"/>
                </a:moveTo>
                <a:cubicBezTo>
                  <a:pt x="15677" y="12017"/>
                  <a:pt x="15672" y="11978"/>
                  <a:pt x="15776" y="11931"/>
                </a:cubicBezTo>
                <a:cubicBezTo>
                  <a:pt x="15846" y="11900"/>
                  <a:pt x="15904" y="11887"/>
                  <a:pt x="15949" y="11956"/>
                </a:cubicBezTo>
                <a:cubicBezTo>
                  <a:pt x="16012" y="12054"/>
                  <a:pt x="15954" y="12117"/>
                  <a:pt x="15875" y="12179"/>
                </a:cubicBezTo>
                <a:cubicBezTo>
                  <a:pt x="15790" y="12246"/>
                  <a:pt x="15696" y="12290"/>
                  <a:pt x="15627" y="12378"/>
                </a:cubicBezTo>
                <a:cubicBezTo>
                  <a:pt x="15584" y="12441"/>
                  <a:pt x="15568" y="12453"/>
                  <a:pt x="15577" y="12502"/>
                </a:cubicBezTo>
                <a:cubicBezTo>
                  <a:pt x="15577" y="12517"/>
                  <a:pt x="15627" y="12428"/>
                  <a:pt x="15677" y="12378"/>
                </a:cubicBezTo>
                <a:cubicBezTo>
                  <a:pt x="15731" y="12324"/>
                  <a:pt x="15716" y="12328"/>
                  <a:pt x="15776" y="12328"/>
                </a:cubicBezTo>
                <a:cubicBezTo>
                  <a:pt x="15820" y="12385"/>
                  <a:pt x="15848" y="12509"/>
                  <a:pt x="15925" y="12526"/>
                </a:cubicBezTo>
                <a:cubicBezTo>
                  <a:pt x="16015" y="12546"/>
                  <a:pt x="16061" y="12508"/>
                  <a:pt x="16098" y="12452"/>
                </a:cubicBezTo>
                <a:cubicBezTo>
                  <a:pt x="16106" y="12444"/>
                  <a:pt x="16115" y="12435"/>
                  <a:pt x="16123" y="12427"/>
                </a:cubicBezTo>
              </a:path>
              <a:path w="1043" h="621">
                <a:moveTo>
                  <a:pt x="16446" y="12055"/>
                </a:moveTo>
                <a:cubicBezTo>
                  <a:pt x="16433" y="12017"/>
                  <a:pt x="16379" y="12012"/>
                  <a:pt x="16346" y="12055"/>
                </a:cubicBezTo>
                <a:cubicBezTo>
                  <a:pt x="16283" y="12137"/>
                  <a:pt x="16272" y="12203"/>
                  <a:pt x="16272" y="12303"/>
                </a:cubicBezTo>
                <a:cubicBezTo>
                  <a:pt x="16272" y="12344"/>
                  <a:pt x="16260" y="12456"/>
                  <a:pt x="16297" y="12477"/>
                </a:cubicBezTo>
                <a:cubicBezTo>
                  <a:pt x="16408" y="12540"/>
                  <a:pt x="16504" y="12492"/>
                  <a:pt x="16570" y="12402"/>
                </a:cubicBezTo>
                <a:cubicBezTo>
                  <a:pt x="16597" y="12366"/>
                  <a:pt x="16664" y="12229"/>
                  <a:pt x="16619" y="12179"/>
                </a:cubicBezTo>
                <a:cubicBezTo>
                  <a:pt x="16593" y="12150"/>
                  <a:pt x="16478" y="12076"/>
                  <a:pt x="16446" y="12080"/>
                </a:cubicBezTo>
                <a:cubicBezTo>
                  <a:pt x="16429" y="12088"/>
                  <a:pt x="16413" y="12097"/>
                  <a:pt x="16396" y="12105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24760" y="4340160"/>
            <a:ext cx="125280" cy="88920"/>
          </a:xfrm>
          <a:custGeom>
            <a:avLst/>
            <a:gdLst/>
            <a:ahLst/>
            <a:rect l="l" t="t" r="r" b="b"/>
            <a:pathLst>
              <a:path w="348" h="249">
                <a:moveTo>
                  <a:pt x="17289" y="12105"/>
                </a:moveTo>
                <a:cubicBezTo>
                  <a:pt x="17363" y="12093"/>
                  <a:pt x="17449" y="12071"/>
                  <a:pt x="17512" y="12055"/>
                </a:cubicBezTo>
                <a:cubicBezTo>
                  <a:pt x="17537" y="12055"/>
                  <a:pt x="17545" y="12055"/>
                  <a:pt x="17537" y="12080"/>
                </a:cubicBezTo>
              </a:path>
              <a:path w="348" h="249">
                <a:moveTo>
                  <a:pt x="17363" y="12278"/>
                </a:moveTo>
                <a:cubicBezTo>
                  <a:pt x="17434" y="12296"/>
                  <a:pt x="17503" y="12303"/>
                  <a:pt x="17587" y="12303"/>
                </a:cubicBezTo>
                <a:cubicBezTo>
                  <a:pt x="17603" y="12303"/>
                  <a:pt x="17620" y="12303"/>
                  <a:pt x="17636" y="12303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26160" y="4214880"/>
            <a:ext cx="428760" cy="285840"/>
          </a:xfrm>
          <a:custGeom>
            <a:avLst/>
            <a:gdLst/>
            <a:ahLst/>
            <a:rect l="l" t="t" r="r" b="b"/>
            <a:pathLst>
              <a:path w="1192" h="795">
                <a:moveTo>
                  <a:pt x="18479" y="11906"/>
                </a:moveTo>
                <a:cubicBezTo>
                  <a:pt x="18404" y="11880"/>
                  <a:pt x="18568" y="11755"/>
                  <a:pt x="18604" y="11733"/>
                </a:cubicBezTo>
                <a:cubicBezTo>
                  <a:pt x="18629" y="11725"/>
                  <a:pt x="18653" y="11716"/>
                  <a:pt x="18678" y="11708"/>
                </a:cubicBezTo>
                <a:cubicBezTo>
                  <a:pt x="18754" y="11874"/>
                  <a:pt x="18769" y="11984"/>
                  <a:pt x="18678" y="12154"/>
                </a:cubicBezTo>
                <a:cubicBezTo>
                  <a:pt x="18616" y="12270"/>
                  <a:pt x="18500" y="12342"/>
                  <a:pt x="18430" y="12452"/>
                </a:cubicBezTo>
                <a:cubicBezTo>
                  <a:pt x="18422" y="12469"/>
                  <a:pt x="18413" y="12485"/>
                  <a:pt x="18405" y="12502"/>
                </a:cubicBezTo>
                <a:cubicBezTo>
                  <a:pt x="18450" y="12463"/>
                  <a:pt x="18559" y="12340"/>
                  <a:pt x="18628" y="12353"/>
                </a:cubicBezTo>
                <a:cubicBezTo>
                  <a:pt x="18718" y="12370"/>
                  <a:pt x="18744" y="12460"/>
                  <a:pt x="18827" y="12427"/>
                </a:cubicBezTo>
              </a:path>
              <a:path w="1192" h="795">
                <a:moveTo>
                  <a:pt x="19348" y="11832"/>
                </a:moveTo>
                <a:cubicBezTo>
                  <a:pt x="19282" y="11832"/>
                  <a:pt x="19215" y="11832"/>
                  <a:pt x="19149" y="11832"/>
                </a:cubicBezTo>
                <a:cubicBezTo>
                  <a:pt x="19138" y="11923"/>
                  <a:pt x="19113" y="12014"/>
                  <a:pt x="19100" y="12105"/>
                </a:cubicBezTo>
                <a:cubicBezTo>
                  <a:pt x="19177" y="12105"/>
                  <a:pt x="19245" y="12070"/>
                  <a:pt x="19323" y="12080"/>
                </a:cubicBezTo>
                <a:cubicBezTo>
                  <a:pt x="19436" y="12094"/>
                  <a:pt x="19564" y="12204"/>
                  <a:pt x="19472" y="12328"/>
                </a:cubicBezTo>
                <a:cubicBezTo>
                  <a:pt x="19408" y="12415"/>
                  <a:pt x="19268" y="12402"/>
                  <a:pt x="19174" y="12402"/>
                </a:cubicBezTo>
              </a:path>
              <a:path w="1192" h="795">
                <a:moveTo>
                  <a:pt x="19248" y="11906"/>
                </a:moveTo>
                <a:cubicBezTo>
                  <a:pt x="19301" y="11836"/>
                  <a:pt x="19348" y="11833"/>
                  <a:pt x="19447" y="11807"/>
                </a:cubicBezTo>
                <a:cubicBezTo>
                  <a:pt x="19529" y="11786"/>
                  <a:pt x="19545" y="11778"/>
                  <a:pt x="19596" y="11782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63960" y="4384800"/>
            <a:ext cx="519120" cy="214200"/>
          </a:xfrm>
          <a:custGeom>
            <a:avLst/>
            <a:gdLst/>
            <a:ahLst/>
            <a:rect l="l" t="t" r="r" b="b"/>
            <a:pathLst>
              <a:path w="1440" h="596">
                <a:moveTo>
                  <a:pt x="11435" y="12229"/>
                </a:moveTo>
                <a:cubicBezTo>
                  <a:pt x="11340" y="12229"/>
                  <a:pt x="11208" y="12300"/>
                  <a:pt x="11112" y="12328"/>
                </a:cubicBezTo>
                <a:cubicBezTo>
                  <a:pt x="10990" y="12363"/>
                  <a:pt x="11056" y="12416"/>
                  <a:pt x="11063" y="12526"/>
                </a:cubicBezTo>
                <a:cubicBezTo>
                  <a:pt x="11063" y="12534"/>
                  <a:pt x="11063" y="12543"/>
                  <a:pt x="11063" y="12551"/>
                </a:cubicBezTo>
                <a:cubicBezTo>
                  <a:pt x="11063" y="12559"/>
                  <a:pt x="11063" y="12568"/>
                  <a:pt x="11063" y="12576"/>
                </a:cubicBezTo>
                <a:cubicBezTo>
                  <a:pt x="11184" y="12532"/>
                  <a:pt x="11234" y="12538"/>
                  <a:pt x="11361" y="12551"/>
                </a:cubicBezTo>
                <a:cubicBezTo>
                  <a:pt x="11375" y="12744"/>
                  <a:pt x="11301" y="12763"/>
                  <a:pt x="11112" y="12774"/>
                </a:cubicBezTo>
                <a:cubicBezTo>
                  <a:pt x="11054" y="12774"/>
                  <a:pt x="11046" y="12774"/>
                  <a:pt x="11013" y="12774"/>
                </a:cubicBezTo>
              </a:path>
              <a:path w="1440" h="596">
                <a:moveTo>
                  <a:pt x="11708" y="12229"/>
                </a:moveTo>
                <a:cubicBezTo>
                  <a:pt x="11623" y="12243"/>
                  <a:pt x="11556" y="12349"/>
                  <a:pt x="11534" y="12452"/>
                </a:cubicBezTo>
                <a:cubicBezTo>
                  <a:pt x="11534" y="12564"/>
                  <a:pt x="11528" y="12596"/>
                  <a:pt x="11584" y="12650"/>
                </a:cubicBezTo>
                <a:cubicBezTo>
                  <a:pt x="11774" y="12650"/>
                  <a:pt x="11968" y="12577"/>
                  <a:pt x="11881" y="12328"/>
                </a:cubicBezTo>
                <a:cubicBezTo>
                  <a:pt x="11839" y="12208"/>
                  <a:pt x="11741" y="12270"/>
                  <a:pt x="11658" y="12278"/>
                </a:cubicBezTo>
              </a:path>
              <a:path w="1440" h="596">
                <a:moveTo>
                  <a:pt x="12278" y="12204"/>
                </a:moveTo>
                <a:cubicBezTo>
                  <a:pt x="12200" y="12193"/>
                  <a:pt x="12104" y="12293"/>
                  <a:pt x="12080" y="12402"/>
                </a:cubicBezTo>
                <a:cubicBezTo>
                  <a:pt x="12048" y="12543"/>
                  <a:pt x="12089" y="12587"/>
                  <a:pt x="12179" y="12650"/>
                </a:cubicBezTo>
                <a:cubicBezTo>
                  <a:pt x="12325" y="12607"/>
                  <a:pt x="12541" y="12467"/>
                  <a:pt x="12452" y="12254"/>
                </a:cubicBezTo>
                <a:cubicBezTo>
                  <a:pt x="12389" y="12104"/>
                  <a:pt x="12211" y="12221"/>
                  <a:pt x="12154" y="12254"/>
                </a:cubicBezTo>
                <a:cubicBezTo>
                  <a:pt x="12146" y="12254"/>
                  <a:pt x="12137" y="12254"/>
                  <a:pt x="12129" y="1225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44960" y="4643280"/>
            <a:ext cx="2376360" cy="169920"/>
          </a:xfrm>
          <a:custGeom>
            <a:avLst/>
            <a:gdLst/>
            <a:ahLst/>
            <a:rect l="l" t="t" r="r" b="b"/>
            <a:pathLst>
              <a:path w="6599" h="473">
                <a:moveTo>
                  <a:pt x="11311" y="13122"/>
                </a:moveTo>
                <a:cubicBezTo>
                  <a:pt x="11279" y="13145"/>
                  <a:pt x="11193" y="13272"/>
                  <a:pt x="11261" y="13320"/>
                </a:cubicBezTo>
                <a:cubicBezTo>
                  <a:pt x="11414" y="13428"/>
                  <a:pt x="11532" y="13246"/>
                  <a:pt x="11609" y="13146"/>
                </a:cubicBezTo>
              </a:path>
              <a:path w="6599" h="473">
                <a:moveTo>
                  <a:pt x="14412" y="12898"/>
                </a:moveTo>
                <a:cubicBezTo>
                  <a:pt x="14428" y="12923"/>
                  <a:pt x="14445" y="12948"/>
                  <a:pt x="14461" y="12973"/>
                </a:cubicBezTo>
              </a:path>
              <a:path w="6599" h="473">
                <a:moveTo>
                  <a:pt x="14461" y="12973"/>
                </a:moveTo>
                <a:lnTo>
                  <a:pt x="14461" y="12973"/>
                </a:lnTo>
              </a:path>
              <a:path w="6599" h="473">
                <a:moveTo>
                  <a:pt x="14486" y="13370"/>
                </a:moveTo>
                <a:cubicBezTo>
                  <a:pt x="14572" y="13370"/>
                  <a:pt x="14611" y="13342"/>
                  <a:pt x="14635" y="13246"/>
                </a:cubicBezTo>
              </a:path>
              <a:path w="6599" h="473">
                <a:moveTo>
                  <a:pt x="17438" y="13022"/>
                </a:moveTo>
                <a:cubicBezTo>
                  <a:pt x="17552" y="12985"/>
                  <a:pt x="17704" y="12951"/>
                  <a:pt x="17735" y="12998"/>
                </a:cubicBezTo>
              </a:path>
              <a:path w="6599" h="473">
                <a:moveTo>
                  <a:pt x="17835" y="13097"/>
                </a:moveTo>
                <a:lnTo>
                  <a:pt x="17835" y="13097"/>
                </a:ln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52960" y="4697280"/>
            <a:ext cx="303120" cy="231840"/>
          </a:xfrm>
          <a:custGeom>
            <a:avLst/>
            <a:gdLst/>
            <a:ahLst/>
            <a:rect l="l" t="t" r="r" b="b"/>
            <a:pathLst>
              <a:path w="845" h="646">
                <a:moveTo>
                  <a:pt x="11559" y="13047"/>
                </a:moveTo>
                <a:cubicBezTo>
                  <a:pt x="11552" y="13230"/>
                  <a:pt x="11534" y="13410"/>
                  <a:pt x="11534" y="13593"/>
                </a:cubicBezTo>
              </a:path>
              <a:path w="845" h="646">
                <a:moveTo>
                  <a:pt x="11857" y="13146"/>
                </a:moveTo>
                <a:cubicBezTo>
                  <a:pt x="11913" y="13071"/>
                  <a:pt x="11746" y="13127"/>
                  <a:pt x="11683" y="13196"/>
                </a:cubicBezTo>
                <a:cubicBezTo>
                  <a:pt x="11675" y="13221"/>
                  <a:pt x="11666" y="13246"/>
                  <a:pt x="11658" y="13271"/>
                </a:cubicBezTo>
                <a:cubicBezTo>
                  <a:pt x="11725" y="13376"/>
                  <a:pt x="11963" y="13476"/>
                  <a:pt x="11857" y="13643"/>
                </a:cubicBezTo>
                <a:cubicBezTo>
                  <a:pt x="11824" y="13659"/>
                  <a:pt x="11790" y="13676"/>
                  <a:pt x="11757" y="13692"/>
                </a:cubicBezTo>
                <a:cubicBezTo>
                  <a:pt x="11649" y="13546"/>
                  <a:pt x="11786" y="13421"/>
                  <a:pt x="11832" y="13246"/>
                </a:cubicBezTo>
                <a:cubicBezTo>
                  <a:pt x="11841" y="13214"/>
                  <a:pt x="11832" y="13163"/>
                  <a:pt x="11832" y="13196"/>
                </a:cubicBezTo>
              </a:path>
              <a:path w="845" h="646">
                <a:moveTo>
                  <a:pt x="12204" y="13097"/>
                </a:moveTo>
                <a:cubicBezTo>
                  <a:pt x="12029" y="13208"/>
                  <a:pt x="12061" y="13327"/>
                  <a:pt x="12105" y="13519"/>
                </a:cubicBezTo>
                <a:cubicBezTo>
                  <a:pt x="12254" y="13489"/>
                  <a:pt x="12554" y="13325"/>
                  <a:pt x="12328" y="13122"/>
                </a:cubicBezTo>
                <a:cubicBezTo>
                  <a:pt x="12212" y="13099"/>
                  <a:pt x="12179" y="13088"/>
                  <a:pt x="12105" y="13122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33960" y="4749840"/>
            <a:ext cx="125280" cy="1440"/>
          </a:xfrm>
          <a:custGeom>
            <a:avLst/>
            <a:gdLst/>
            <a:ahLst/>
            <a:rect l="l" t="t" r="r" b="b"/>
            <a:pathLst>
              <a:path w="348" h="1">
                <a:moveTo>
                  <a:pt x="14288" y="13196"/>
                </a:moveTo>
                <a:cubicBezTo>
                  <a:pt x="14205" y="13196"/>
                  <a:pt x="14403" y="13196"/>
                  <a:pt x="14486" y="13196"/>
                </a:cubicBezTo>
                <a:cubicBezTo>
                  <a:pt x="14560" y="13196"/>
                  <a:pt x="14569" y="13196"/>
                  <a:pt x="14610" y="13196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72080" y="4653000"/>
            <a:ext cx="330120" cy="160200"/>
          </a:xfrm>
          <a:custGeom>
            <a:avLst/>
            <a:gdLst/>
            <a:ahLst/>
            <a:rect l="l" t="t" r="r" b="b"/>
            <a:pathLst>
              <a:path w="919" h="448">
                <a:moveTo>
                  <a:pt x="15478" y="12973"/>
                </a:moveTo>
                <a:cubicBezTo>
                  <a:pt x="15507" y="12887"/>
                  <a:pt x="15695" y="12939"/>
                  <a:pt x="15751" y="12973"/>
                </a:cubicBezTo>
                <a:cubicBezTo>
                  <a:pt x="16078" y="13174"/>
                  <a:pt x="15704" y="13314"/>
                  <a:pt x="15528" y="13370"/>
                </a:cubicBezTo>
                <a:cubicBezTo>
                  <a:pt x="15511" y="13353"/>
                  <a:pt x="15495" y="13337"/>
                  <a:pt x="15478" y="13320"/>
                </a:cubicBezTo>
                <a:cubicBezTo>
                  <a:pt x="15643" y="13194"/>
                  <a:pt x="15678" y="13193"/>
                  <a:pt x="15875" y="13246"/>
                </a:cubicBezTo>
              </a:path>
              <a:path w="919" h="448">
                <a:moveTo>
                  <a:pt x="16024" y="12973"/>
                </a:moveTo>
                <a:cubicBezTo>
                  <a:pt x="15999" y="13014"/>
                  <a:pt x="15974" y="13056"/>
                  <a:pt x="15949" y="13097"/>
                </a:cubicBezTo>
                <a:cubicBezTo>
                  <a:pt x="16036" y="13220"/>
                  <a:pt x="16387" y="13403"/>
                  <a:pt x="16396" y="13072"/>
                </a:cubicBezTo>
                <a:cubicBezTo>
                  <a:pt x="16400" y="12933"/>
                  <a:pt x="16157" y="13011"/>
                  <a:pt x="16098" y="13022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13320" y="4714920"/>
            <a:ext cx="108000" cy="36360"/>
          </a:xfrm>
          <a:custGeom>
            <a:avLst/>
            <a:gdLst/>
            <a:ahLst/>
            <a:rect l="l" t="t" r="r" b="b"/>
            <a:pathLst>
              <a:path w="299" h="100">
                <a:moveTo>
                  <a:pt x="17537" y="13196"/>
                </a:moveTo>
                <a:cubicBezTo>
                  <a:pt x="17686" y="13146"/>
                  <a:pt x="17735" y="13129"/>
                  <a:pt x="17835" y="13097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42080" y="4527720"/>
            <a:ext cx="347760" cy="241200"/>
          </a:xfrm>
          <a:custGeom>
            <a:avLst/>
            <a:gdLst/>
            <a:ahLst/>
            <a:rect l="l" t="t" r="r" b="b"/>
            <a:pathLst>
              <a:path w="968" h="671">
                <a:moveTo>
                  <a:pt x="18728" y="12774"/>
                </a:moveTo>
                <a:cubicBezTo>
                  <a:pt x="18933" y="12796"/>
                  <a:pt x="19311" y="12865"/>
                  <a:pt x="19025" y="13146"/>
                </a:cubicBezTo>
                <a:cubicBezTo>
                  <a:pt x="18874" y="13233"/>
                  <a:pt x="18841" y="13267"/>
                  <a:pt x="18728" y="13246"/>
                </a:cubicBezTo>
                <a:cubicBezTo>
                  <a:pt x="18769" y="13079"/>
                  <a:pt x="18852" y="13059"/>
                  <a:pt x="19025" y="13097"/>
                </a:cubicBezTo>
                <a:cubicBezTo>
                  <a:pt x="19163" y="13127"/>
                  <a:pt x="19038" y="13172"/>
                  <a:pt x="19174" y="13097"/>
                </a:cubicBezTo>
              </a:path>
              <a:path w="968" h="671">
                <a:moveTo>
                  <a:pt x="19323" y="12675"/>
                </a:moveTo>
                <a:cubicBezTo>
                  <a:pt x="19314" y="12735"/>
                  <a:pt x="19258" y="12886"/>
                  <a:pt x="19348" y="12923"/>
                </a:cubicBezTo>
                <a:cubicBezTo>
                  <a:pt x="19531" y="12999"/>
                  <a:pt x="19632" y="12922"/>
                  <a:pt x="19695" y="12774"/>
                </a:cubicBezTo>
              </a:path>
              <a:path w="968" h="671">
                <a:moveTo>
                  <a:pt x="19571" y="12576"/>
                </a:moveTo>
                <a:cubicBezTo>
                  <a:pt x="19571" y="12752"/>
                  <a:pt x="19585" y="12922"/>
                  <a:pt x="19596" y="13097"/>
                </a:cubicBezTo>
                <a:cubicBezTo>
                  <a:pt x="19596" y="13130"/>
                  <a:pt x="19596" y="13163"/>
                  <a:pt x="19596" y="13196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72240" y="5099040"/>
            <a:ext cx="465120" cy="446040"/>
          </a:xfrm>
          <a:custGeom>
            <a:avLst/>
            <a:gdLst/>
            <a:ahLst/>
            <a:rect l="l" t="t" r="r" b="b"/>
            <a:pathLst>
              <a:path w="1291" h="1242">
                <a:moveTo>
                  <a:pt x="21059" y="14635"/>
                </a:moveTo>
                <a:cubicBezTo>
                  <a:pt x="21094" y="14750"/>
                  <a:pt x="21110" y="14908"/>
                  <a:pt x="21158" y="15007"/>
                </a:cubicBezTo>
                <a:cubicBezTo>
                  <a:pt x="21031" y="14929"/>
                  <a:pt x="21016" y="14729"/>
                  <a:pt x="21034" y="14585"/>
                </a:cubicBezTo>
                <a:cubicBezTo>
                  <a:pt x="21056" y="14408"/>
                  <a:pt x="21213" y="14180"/>
                  <a:pt x="21382" y="14387"/>
                </a:cubicBezTo>
                <a:cubicBezTo>
                  <a:pt x="21491" y="14520"/>
                  <a:pt x="21415" y="14906"/>
                  <a:pt x="21580" y="14858"/>
                </a:cubicBezTo>
                <a:cubicBezTo>
                  <a:pt x="21588" y="14841"/>
                  <a:pt x="21597" y="14825"/>
                  <a:pt x="21605" y="14808"/>
                </a:cubicBezTo>
              </a:path>
              <a:path w="1291" h="1242">
                <a:moveTo>
                  <a:pt x="21878" y="14163"/>
                </a:moveTo>
                <a:cubicBezTo>
                  <a:pt x="21719" y="14270"/>
                  <a:pt x="21682" y="14493"/>
                  <a:pt x="21704" y="14684"/>
                </a:cubicBezTo>
                <a:cubicBezTo>
                  <a:pt x="21721" y="14725"/>
                  <a:pt x="21737" y="14767"/>
                  <a:pt x="21754" y="14808"/>
                </a:cubicBezTo>
                <a:cubicBezTo>
                  <a:pt x="21953" y="14800"/>
                  <a:pt x="22292" y="14670"/>
                  <a:pt x="22151" y="14362"/>
                </a:cubicBezTo>
                <a:cubicBezTo>
                  <a:pt x="22074" y="14194"/>
                  <a:pt x="21904" y="14313"/>
                  <a:pt x="21828" y="14362"/>
                </a:cubicBezTo>
              </a:path>
              <a:path w="1291" h="1242">
                <a:moveTo>
                  <a:pt x="21208" y="15404"/>
                </a:moveTo>
                <a:cubicBezTo>
                  <a:pt x="21482" y="15303"/>
                  <a:pt x="21727" y="15142"/>
                  <a:pt x="22002" y="15032"/>
                </a:cubicBezTo>
                <a:cubicBezTo>
                  <a:pt x="22120" y="14985"/>
                  <a:pt x="22205" y="14949"/>
                  <a:pt x="22324" y="14932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Objective:  Students will Estimate Decimal Products and Quotients</a:t>
            </a:r>
            <a:endParaRPr b="0" lang="en-US" sz="1400" spc="-1" strike="noStrike">
              <a:solidFill>
                <a:srgbClr val="f8f8f8"/>
              </a:solidFill>
              <a:latin typeface="Verdana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ccff"/>
                </a:solidFill>
                <a:latin typeface="Verdana"/>
              </a:rPr>
              <a:t>Skill Practice: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1.) Estimate 7.284 x 48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2.) Estimate 26.96 ÷ 9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3.) Use estimation to check that the calculation 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29 x 151.8 = 4,402.2 is reasonable.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4.) Use estimation to check that the calculation 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78.39 ÷ 8 = 37.61 is reasonable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51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5198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Verdana"/>
            </a:endParaRPr>
          </a:p>
          <a:p>
            <a:pPr lvl="1" marL="5198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Verdana"/>
            </a:endParaRPr>
          </a:p>
          <a:p>
            <a:pPr lvl="1" marL="519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lvl="1" marL="519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3197160" y="1554120"/>
            <a:ext cx="214200" cy="285840"/>
          </a:xfrm>
          <a:custGeom>
            <a:avLst/>
            <a:gdLst/>
            <a:ahLst/>
            <a:rect l="l" t="t" r="r" b="b"/>
            <a:pathLst>
              <a:path w="596" h="795">
                <a:moveTo>
                  <a:pt x="9004" y="4366"/>
                </a:moveTo>
                <a:cubicBezTo>
                  <a:pt x="9145" y="4385"/>
                  <a:pt x="9235" y="4357"/>
                  <a:pt x="9376" y="4341"/>
                </a:cubicBezTo>
                <a:cubicBezTo>
                  <a:pt x="9434" y="4341"/>
                  <a:pt x="9459" y="4358"/>
                  <a:pt x="9451" y="4316"/>
                </a:cubicBezTo>
                <a:cubicBezTo>
                  <a:pt x="9476" y="4500"/>
                  <a:pt x="9454" y="4675"/>
                  <a:pt x="9426" y="4862"/>
                </a:cubicBezTo>
                <a:cubicBezTo>
                  <a:pt x="9414" y="4943"/>
                  <a:pt x="9376" y="5007"/>
                  <a:pt x="9376" y="5085"/>
                </a:cubicBezTo>
                <a:cubicBezTo>
                  <a:pt x="9376" y="5093"/>
                  <a:pt x="9376" y="5102"/>
                  <a:pt x="9376" y="5110"/>
                </a:cubicBezTo>
              </a:path>
              <a:path w="596" h="795">
                <a:moveTo>
                  <a:pt x="8880" y="4366"/>
                </a:moveTo>
                <a:cubicBezTo>
                  <a:pt x="8959" y="4366"/>
                  <a:pt x="9026" y="4385"/>
                  <a:pt x="9103" y="4390"/>
                </a:cubicBezTo>
                <a:cubicBezTo>
                  <a:pt x="9128" y="4390"/>
                  <a:pt x="9136" y="4390"/>
                  <a:pt x="9153" y="4390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63960" y="1571760"/>
            <a:ext cx="117360" cy="134640"/>
          </a:xfrm>
          <a:custGeom>
            <a:avLst/>
            <a:gdLst/>
            <a:ahLst/>
            <a:rect l="l" t="t" r="r" b="b"/>
            <a:pathLst>
              <a:path w="324" h="373">
                <a:moveTo>
                  <a:pt x="11013" y="4366"/>
                </a:moveTo>
                <a:cubicBezTo>
                  <a:pt x="11068" y="4461"/>
                  <a:pt x="11183" y="4572"/>
                  <a:pt x="11261" y="4663"/>
                </a:cubicBezTo>
                <a:cubicBezTo>
                  <a:pt x="11288" y="4695"/>
                  <a:pt x="11298" y="4688"/>
                  <a:pt x="11336" y="4688"/>
                </a:cubicBezTo>
              </a:path>
              <a:path w="324" h="373">
                <a:moveTo>
                  <a:pt x="11311" y="4366"/>
                </a:moveTo>
                <a:cubicBezTo>
                  <a:pt x="11264" y="4381"/>
                  <a:pt x="11201" y="4493"/>
                  <a:pt x="11162" y="4539"/>
                </a:cubicBezTo>
                <a:cubicBezTo>
                  <a:pt x="11122" y="4586"/>
                  <a:pt x="11081" y="4653"/>
                  <a:pt x="11063" y="4713"/>
                </a:cubicBezTo>
                <a:cubicBezTo>
                  <a:pt x="11063" y="4721"/>
                  <a:pt x="11063" y="4730"/>
                  <a:pt x="11063" y="4738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8080" y="1535040"/>
            <a:ext cx="349200" cy="216000"/>
          </a:xfrm>
          <a:custGeom>
            <a:avLst/>
            <a:gdLst/>
            <a:ahLst/>
            <a:rect l="l" t="t" r="r" b="b"/>
            <a:pathLst>
              <a:path w="968" h="597">
                <a:moveTo>
                  <a:pt x="12427" y="4291"/>
                </a:moveTo>
                <a:cubicBezTo>
                  <a:pt x="12475" y="4219"/>
                  <a:pt x="12255" y="4334"/>
                  <a:pt x="12204" y="4341"/>
                </a:cubicBezTo>
                <a:cubicBezTo>
                  <a:pt x="12065" y="4362"/>
                  <a:pt x="12110" y="4333"/>
                  <a:pt x="12129" y="4490"/>
                </a:cubicBezTo>
                <a:cubicBezTo>
                  <a:pt x="12129" y="4531"/>
                  <a:pt x="12129" y="4539"/>
                  <a:pt x="12129" y="4564"/>
                </a:cubicBezTo>
                <a:cubicBezTo>
                  <a:pt x="12207" y="4538"/>
                  <a:pt x="12345" y="4473"/>
                  <a:pt x="12427" y="4514"/>
                </a:cubicBezTo>
                <a:cubicBezTo>
                  <a:pt x="12542" y="4572"/>
                  <a:pt x="12509" y="4706"/>
                  <a:pt x="12452" y="4787"/>
                </a:cubicBezTo>
                <a:cubicBezTo>
                  <a:pt x="12377" y="4894"/>
                  <a:pt x="12217" y="4862"/>
                  <a:pt x="12105" y="4862"/>
                </a:cubicBezTo>
                <a:cubicBezTo>
                  <a:pt x="12097" y="4862"/>
                  <a:pt x="12088" y="4862"/>
                  <a:pt x="12080" y="4862"/>
                </a:cubicBezTo>
              </a:path>
              <a:path w="968" h="597">
                <a:moveTo>
                  <a:pt x="12774" y="4291"/>
                </a:moveTo>
                <a:cubicBezTo>
                  <a:pt x="12729" y="4314"/>
                  <a:pt x="12685" y="4404"/>
                  <a:pt x="12675" y="4465"/>
                </a:cubicBezTo>
                <a:cubicBezTo>
                  <a:pt x="12662" y="4541"/>
                  <a:pt x="12650" y="4610"/>
                  <a:pt x="12650" y="4688"/>
                </a:cubicBezTo>
                <a:cubicBezTo>
                  <a:pt x="12650" y="4748"/>
                  <a:pt x="12672" y="4813"/>
                  <a:pt x="12700" y="4837"/>
                </a:cubicBezTo>
                <a:cubicBezTo>
                  <a:pt x="12747" y="4878"/>
                  <a:pt x="12795" y="4859"/>
                  <a:pt x="12849" y="4837"/>
                </a:cubicBezTo>
                <a:cubicBezTo>
                  <a:pt x="12918" y="4809"/>
                  <a:pt x="12947" y="4749"/>
                  <a:pt x="12998" y="4713"/>
                </a:cubicBezTo>
                <a:cubicBezTo>
                  <a:pt x="13029" y="4691"/>
                  <a:pt x="13044" y="4621"/>
                  <a:pt x="13047" y="4564"/>
                </a:cubicBezTo>
                <a:cubicBezTo>
                  <a:pt x="13050" y="4517"/>
                  <a:pt x="13046" y="4440"/>
                  <a:pt x="13022" y="4415"/>
                </a:cubicBezTo>
                <a:cubicBezTo>
                  <a:pt x="13013" y="4406"/>
                  <a:pt x="12953" y="4343"/>
                  <a:pt x="12948" y="4341"/>
                </a:cubicBezTo>
                <a:cubicBezTo>
                  <a:pt x="12903" y="4319"/>
                  <a:pt x="12851" y="4316"/>
                  <a:pt x="12799" y="4316"/>
                </a:cubicBezTo>
                <a:cubicBezTo>
                  <a:pt x="12791" y="4316"/>
                  <a:pt x="12782" y="4316"/>
                  <a:pt x="12774" y="4316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18040" y="1571760"/>
            <a:ext cx="169920" cy="81000"/>
          </a:xfrm>
          <a:custGeom>
            <a:avLst/>
            <a:gdLst/>
            <a:ahLst/>
            <a:rect l="l" t="t" r="r" b="b"/>
            <a:pathLst>
              <a:path w="473" h="224">
                <a:moveTo>
                  <a:pt x="13940" y="4390"/>
                </a:moveTo>
                <a:cubicBezTo>
                  <a:pt x="14041" y="4390"/>
                  <a:pt x="14137" y="4352"/>
                  <a:pt x="14238" y="4366"/>
                </a:cubicBezTo>
                <a:cubicBezTo>
                  <a:pt x="14286" y="4389"/>
                  <a:pt x="14303" y="4395"/>
                  <a:pt x="14288" y="4440"/>
                </a:cubicBezTo>
              </a:path>
              <a:path w="473" h="224">
                <a:moveTo>
                  <a:pt x="14114" y="4589"/>
                </a:moveTo>
                <a:cubicBezTo>
                  <a:pt x="14238" y="4580"/>
                  <a:pt x="14361" y="4526"/>
                  <a:pt x="14412" y="4589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75160" y="1465200"/>
            <a:ext cx="563760" cy="266760"/>
          </a:xfrm>
          <a:custGeom>
            <a:avLst/>
            <a:gdLst/>
            <a:ahLst/>
            <a:rect l="l" t="t" r="r" b="b"/>
            <a:pathLst>
              <a:path w="1564" h="745">
                <a:moveTo>
                  <a:pt x="15007" y="4167"/>
                </a:moveTo>
                <a:cubicBezTo>
                  <a:pt x="15094" y="4105"/>
                  <a:pt x="15128" y="4106"/>
                  <a:pt x="15230" y="4093"/>
                </a:cubicBezTo>
                <a:cubicBezTo>
                  <a:pt x="15293" y="4242"/>
                  <a:pt x="15259" y="4325"/>
                  <a:pt x="15131" y="4440"/>
                </a:cubicBezTo>
                <a:cubicBezTo>
                  <a:pt x="15273" y="4397"/>
                  <a:pt x="15367" y="4430"/>
                  <a:pt x="15329" y="4614"/>
                </a:cubicBezTo>
                <a:cubicBezTo>
                  <a:pt x="15286" y="4823"/>
                  <a:pt x="15123" y="4812"/>
                  <a:pt x="14957" y="4812"/>
                </a:cubicBezTo>
                <a:cubicBezTo>
                  <a:pt x="14949" y="4812"/>
                  <a:pt x="14940" y="4812"/>
                  <a:pt x="14932" y="4812"/>
                </a:cubicBezTo>
              </a:path>
              <a:path w="1564" h="745">
                <a:moveTo>
                  <a:pt x="15875" y="4068"/>
                </a:moveTo>
                <a:cubicBezTo>
                  <a:pt x="15812" y="4100"/>
                  <a:pt x="15625" y="4113"/>
                  <a:pt x="15602" y="4167"/>
                </a:cubicBezTo>
                <a:cubicBezTo>
                  <a:pt x="15564" y="4258"/>
                  <a:pt x="15553" y="4367"/>
                  <a:pt x="15553" y="4465"/>
                </a:cubicBezTo>
                <a:cubicBezTo>
                  <a:pt x="15649" y="4432"/>
                  <a:pt x="15717" y="4398"/>
                  <a:pt x="15825" y="4390"/>
                </a:cubicBezTo>
                <a:cubicBezTo>
                  <a:pt x="15922" y="4551"/>
                  <a:pt x="15857" y="4637"/>
                  <a:pt x="15701" y="4738"/>
                </a:cubicBezTo>
                <a:cubicBezTo>
                  <a:pt x="15566" y="4826"/>
                  <a:pt x="15566" y="4813"/>
                  <a:pt x="15453" y="4738"/>
                </a:cubicBezTo>
              </a:path>
              <a:path w="1564" h="745">
                <a:moveTo>
                  <a:pt x="16197" y="4118"/>
                </a:moveTo>
                <a:cubicBezTo>
                  <a:pt x="16164" y="4233"/>
                  <a:pt x="16095" y="4363"/>
                  <a:pt x="16098" y="4490"/>
                </a:cubicBezTo>
                <a:cubicBezTo>
                  <a:pt x="16101" y="4622"/>
                  <a:pt x="16136" y="4721"/>
                  <a:pt x="16272" y="4738"/>
                </a:cubicBezTo>
                <a:cubicBezTo>
                  <a:pt x="16421" y="4756"/>
                  <a:pt x="16510" y="4660"/>
                  <a:pt x="16495" y="4514"/>
                </a:cubicBezTo>
                <a:cubicBezTo>
                  <a:pt x="16484" y="4407"/>
                  <a:pt x="16409" y="4299"/>
                  <a:pt x="16346" y="4217"/>
                </a:cubicBezTo>
                <a:cubicBezTo>
                  <a:pt x="16329" y="4195"/>
                  <a:pt x="16173" y="4144"/>
                  <a:pt x="16173" y="4167"/>
                </a:cubicBezTo>
                <a:cubicBezTo>
                  <a:pt x="16181" y="4175"/>
                  <a:pt x="16189" y="4184"/>
                  <a:pt x="16197" y="4192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44960" y="2143080"/>
            <a:ext cx="1440" cy="223920"/>
          </a:xfrm>
          <a:custGeom>
            <a:avLst/>
            <a:gdLst/>
            <a:ahLst/>
            <a:rect l="l" t="t" r="r" b="b"/>
            <a:pathLst>
              <a:path w="1" h="621">
                <a:moveTo>
                  <a:pt x="11237" y="5953"/>
                </a:moveTo>
                <a:cubicBezTo>
                  <a:pt x="11237" y="5961"/>
                  <a:pt x="11237" y="5970"/>
                  <a:pt x="11237" y="5978"/>
                </a:cubicBezTo>
              </a:path>
              <a:path w="1" h="621">
                <a:moveTo>
                  <a:pt x="11237" y="6573"/>
                </a:moveTo>
                <a:lnTo>
                  <a:pt x="11237" y="6573"/>
                </a:lnTo>
                <a:lnTo>
                  <a:pt x="11237" y="6573"/>
                </a:lnTo>
                <a:lnTo>
                  <a:pt x="11237" y="6573"/>
                </a:ln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33800" y="2197080"/>
            <a:ext cx="376200" cy="231840"/>
          </a:xfrm>
          <a:custGeom>
            <a:avLst/>
            <a:gdLst/>
            <a:ahLst/>
            <a:rect l="l" t="t" r="r" b="b"/>
            <a:pathLst>
              <a:path w="1043" h="646">
                <a:moveTo>
                  <a:pt x="8855" y="6102"/>
                </a:moveTo>
                <a:cubicBezTo>
                  <a:pt x="8948" y="6195"/>
                  <a:pt x="8918" y="6214"/>
                  <a:pt x="8979" y="6176"/>
                </a:cubicBezTo>
                <a:cubicBezTo>
                  <a:pt x="9170" y="6056"/>
                  <a:pt x="9217" y="6463"/>
                  <a:pt x="9128" y="6573"/>
                </a:cubicBezTo>
                <a:cubicBezTo>
                  <a:pt x="9032" y="6692"/>
                  <a:pt x="8814" y="6805"/>
                  <a:pt x="8706" y="6697"/>
                </a:cubicBezTo>
                <a:cubicBezTo>
                  <a:pt x="8831" y="6573"/>
                  <a:pt x="8911" y="6537"/>
                  <a:pt x="9079" y="6623"/>
                </a:cubicBezTo>
                <a:cubicBezTo>
                  <a:pt x="9173" y="6671"/>
                  <a:pt x="9130" y="6704"/>
                  <a:pt x="9178" y="6672"/>
                </a:cubicBezTo>
              </a:path>
              <a:path w="1043" h="646">
                <a:moveTo>
                  <a:pt x="9302" y="6152"/>
                </a:moveTo>
                <a:cubicBezTo>
                  <a:pt x="9378" y="6130"/>
                  <a:pt x="9530" y="6160"/>
                  <a:pt x="9624" y="6176"/>
                </a:cubicBezTo>
                <a:cubicBezTo>
                  <a:pt x="9698" y="6195"/>
                  <a:pt x="9705" y="6203"/>
                  <a:pt x="9748" y="6201"/>
                </a:cubicBezTo>
                <a:cubicBezTo>
                  <a:pt x="9748" y="6371"/>
                  <a:pt x="9709" y="6513"/>
                  <a:pt x="9649" y="6672"/>
                </a:cubicBezTo>
                <a:cubicBezTo>
                  <a:pt x="9629" y="6713"/>
                  <a:pt x="9620" y="6719"/>
                  <a:pt x="9624" y="6747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90960" y="2268360"/>
            <a:ext cx="108000" cy="17640"/>
          </a:xfrm>
          <a:custGeom>
            <a:avLst/>
            <a:gdLst/>
            <a:ahLst/>
            <a:rect l="l" t="t" r="r" b="b"/>
            <a:pathLst>
              <a:path w="298" h="51">
                <a:moveTo>
                  <a:pt x="11088" y="6300"/>
                </a:moveTo>
                <a:cubicBezTo>
                  <a:pt x="11169" y="6317"/>
                  <a:pt x="11252" y="6336"/>
                  <a:pt x="11336" y="6350"/>
                </a:cubicBezTo>
                <a:cubicBezTo>
                  <a:pt x="11361" y="6350"/>
                  <a:pt x="11369" y="6350"/>
                  <a:pt x="11385" y="6350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286160" y="2071800"/>
            <a:ext cx="162000" cy="295200"/>
          </a:xfrm>
          <a:custGeom>
            <a:avLst/>
            <a:gdLst/>
            <a:ahLst/>
            <a:rect l="l" t="t" r="r" b="b"/>
            <a:pathLst>
              <a:path w="448" h="819">
                <a:moveTo>
                  <a:pt x="12353" y="5904"/>
                </a:moveTo>
                <a:cubicBezTo>
                  <a:pt x="12336" y="5835"/>
                  <a:pt x="12260" y="5758"/>
                  <a:pt x="12179" y="5755"/>
                </a:cubicBezTo>
                <a:cubicBezTo>
                  <a:pt x="12013" y="5749"/>
                  <a:pt x="11893" y="5985"/>
                  <a:pt x="11906" y="6127"/>
                </a:cubicBezTo>
                <a:cubicBezTo>
                  <a:pt x="11928" y="6364"/>
                  <a:pt x="12159" y="6209"/>
                  <a:pt x="12229" y="6127"/>
                </a:cubicBezTo>
                <a:cubicBezTo>
                  <a:pt x="12274" y="6074"/>
                  <a:pt x="12328" y="5883"/>
                  <a:pt x="12328" y="5953"/>
                </a:cubicBezTo>
                <a:cubicBezTo>
                  <a:pt x="12328" y="5961"/>
                  <a:pt x="12328" y="5970"/>
                  <a:pt x="12328" y="5978"/>
                </a:cubicBezTo>
                <a:cubicBezTo>
                  <a:pt x="12320" y="6169"/>
                  <a:pt x="12303" y="6356"/>
                  <a:pt x="12303" y="6548"/>
                </a:cubicBezTo>
                <a:cubicBezTo>
                  <a:pt x="12303" y="6573"/>
                  <a:pt x="12303" y="6581"/>
                  <a:pt x="12278" y="6573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59200" y="2205000"/>
            <a:ext cx="152640" cy="100080"/>
          </a:xfrm>
          <a:custGeom>
            <a:avLst/>
            <a:gdLst/>
            <a:ahLst/>
            <a:rect l="l" t="t" r="r" b="b"/>
            <a:pathLst>
              <a:path w="423" h="274">
                <a:moveTo>
                  <a:pt x="13221" y="6176"/>
                </a:moveTo>
                <a:cubicBezTo>
                  <a:pt x="13312" y="6144"/>
                  <a:pt x="13444" y="6094"/>
                  <a:pt x="13543" y="6127"/>
                </a:cubicBezTo>
                <a:cubicBezTo>
                  <a:pt x="13551" y="6135"/>
                  <a:pt x="13560" y="6144"/>
                  <a:pt x="13568" y="6152"/>
                </a:cubicBezTo>
              </a:path>
              <a:path w="423" h="274">
                <a:moveTo>
                  <a:pt x="13345" y="6400"/>
                </a:moveTo>
                <a:cubicBezTo>
                  <a:pt x="13449" y="6400"/>
                  <a:pt x="13541" y="6390"/>
                  <a:pt x="13643" y="6375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06960" y="2152800"/>
            <a:ext cx="135000" cy="214200"/>
          </a:xfrm>
          <a:custGeom>
            <a:avLst/>
            <a:gdLst/>
            <a:ahLst/>
            <a:rect l="l" t="t" r="r" b="b"/>
            <a:pathLst>
              <a:path w="373" h="596">
                <a:moveTo>
                  <a:pt x="14213" y="6052"/>
                </a:moveTo>
                <a:cubicBezTo>
                  <a:pt x="14152" y="6032"/>
                  <a:pt x="14222" y="5992"/>
                  <a:pt x="14263" y="5978"/>
                </a:cubicBezTo>
                <a:cubicBezTo>
                  <a:pt x="14371" y="5942"/>
                  <a:pt x="14482" y="5981"/>
                  <a:pt x="14486" y="6102"/>
                </a:cubicBezTo>
                <a:cubicBezTo>
                  <a:pt x="14490" y="6235"/>
                  <a:pt x="14366" y="6259"/>
                  <a:pt x="14263" y="6276"/>
                </a:cubicBezTo>
                <a:cubicBezTo>
                  <a:pt x="14354" y="6276"/>
                  <a:pt x="14432" y="6261"/>
                  <a:pt x="14511" y="6325"/>
                </a:cubicBezTo>
                <a:cubicBezTo>
                  <a:pt x="14692" y="6472"/>
                  <a:pt x="14375" y="6555"/>
                  <a:pt x="14288" y="6573"/>
                </a:cubicBezTo>
                <a:cubicBezTo>
                  <a:pt x="14263" y="6573"/>
                  <a:pt x="14255" y="6573"/>
                  <a:pt x="14238" y="6573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37040" y="3000240"/>
            <a:ext cx="17280" cy="196920"/>
          </a:xfrm>
          <a:custGeom>
            <a:avLst/>
            <a:gdLst/>
            <a:ahLst/>
            <a:rect l="l" t="t" r="r" b="b"/>
            <a:pathLst>
              <a:path w="50" h="547">
                <a:moveTo>
                  <a:pt x="11212" y="8334"/>
                </a:moveTo>
                <a:cubicBezTo>
                  <a:pt x="11212" y="8342"/>
                  <a:pt x="11212" y="8351"/>
                  <a:pt x="11212" y="8359"/>
                </a:cubicBezTo>
              </a:path>
              <a:path w="50" h="547">
                <a:moveTo>
                  <a:pt x="11261" y="8880"/>
                </a:moveTo>
                <a:cubicBezTo>
                  <a:pt x="11253" y="8880"/>
                  <a:pt x="11245" y="8880"/>
                  <a:pt x="11237" y="8880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71880" y="3044880"/>
            <a:ext cx="455400" cy="241200"/>
          </a:xfrm>
          <a:custGeom>
            <a:avLst/>
            <a:gdLst/>
            <a:ahLst/>
            <a:rect l="l" t="t" r="r" b="b"/>
            <a:pathLst>
              <a:path w="1266" h="671">
                <a:moveTo>
                  <a:pt x="8533" y="8533"/>
                </a:moveTo>
                <a:cubicBezTo>
                  <a:pt x="8660" y="8507"/>
                  <a:pt x="8735" y="8445"/>
                  <a:pt x="8880" y="8458"/>
                </a:cubicBezTo>
                <a:cubicBezTo>
                  <a:pt x="9110" y="8479"/>
                  <a:pt x="8707" y="8730"/>
                  <a:pt x="8706" y="8731"/>
                </a:cubicBezTo>
                <a:cubicBezTo>
                  <a:pt x="8690" y="8739"/>
                  <a:pt x="8673" y="8748"/>
                  <a:pt x="8657" y="8756"/>
                </a:cubicBezTo>
                <a:cubicBezTo>
                  <a:pt x="8765" y="8738"/>
                  <a:pt x="8903" y="8676"/>
                  <a:pt x="8979" y="8806"/>
                </a:cubicBezTo>
                <a:cubicBezTo>
                  <a:pt x="9104" y="9020"/>
                  <a:pt x="8714" y="9112"/>
                  <a:pt x="8607" y="9128"/>
                </a:cubicBezTo>
                <a:cubicBezTo>
                  <a:pt x="8532" y="9128"/>
                  <a:pt x="8507" y="9127"/>
                  <a:pt x="8558" y="9054"/>
                </a:cubicBezTo>
              </a:path>
              <a:path w="1266" h="671">
                <a:moveTo>
                  <a:pt x="9550" y="8508"/>
                </a:moveTo>
                <a:cubicBezTo>
                  <a:pt x="9443" y="8472"/>
                  <a:pt x="9325" y="8627"/>
                  <a:pt x="9277" y="8731"/>
                </a:cubicBezTo>
                <a:cubicBezTo>
                  <a:pt x="9181" y="8942"/>
                  <a:pt x="9312" y="9103"/>
                  <a:pt x="9525" y="9079"/>
                </a:cubicBezTo>
                <a:cubicBezTo>
                  <a:pt x="9716" y="9058"/>
                  <a:pt x="9890" y="8849"/>
                  <a:pt x="9773" y="8657"/>
                </a:cubicBezTo>
                <a:cubicBezTo>
                  <a:pt x="9719" y="8568"/>
                  <a:pt x="9588" y="8549"/>
                  <a:pt x="9500" y="8533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6040" y="2982960"/>
            <a:ext cx="652320" cy="223920"/>
          </a:xfrm>
          <a:custGeom>
            <a:avLst/>
            <a:gdLst/>
            <a:ahLst/>
            <a:rect l="l" t="t" r="r" b="b"/>
            <a:pathLst>
              <a:path w="1812" h="621">
                <a:moveTo>
                  <a:pt x="12005" y="8409"/>
                </a:moveTo>
                <a:cubicBezTo>
                  <a:pt x="12005" y="8362"/>
                  <a:pt x="12021" y="8329"/>
                  <a:pt x="12030" y="8285"/>
                </a:cubicBezTo>
                <a:cubicBezTo>
                  <a:pt x="12016" y="8485"/>
                  <a:pt x="11983" y="8682"/>
                  <a:pt x="11956" y="8880"/>
                </a:cubicBezTo>
                <a:cubicBezTo>
                  <a:pt x="11956" y="8888"/>
                  <a:pt x="11956" y="8897"/>
                  <a:pt x="11956" y="8905"/>
                </a:cubicBezTo>
              </a:path>
              <a:path w="1812" h="621">
                <a:moveTo>
                  <a:pt x="12427" y="8458"/>
                </a:moveTo>
                <a:cubicBezTo>
                  <a:pt x="12393" y="8568"/>
                  <a:pt x="12328" y="8714"/>
                  <a:pt x="12353" y="8830"/>
                </a:cubicBezTo>
                <a:cubicBezTo>
                  <a:pt x="12389" y="8999"/>
                  <a:pt x="12637" y="8854"/>
                  <a:pt x="12700" y="8806"/>
                </a:cubicBezTo>
                <a:cubicBezTo>
                  <a:pt x="12847" y="8694"/>
                  <a:pt x="12804" y="8587"/>
                  <a:pt x="12700" y="8483"/>
                </a:cubicBezTo>
                <a:cubicBezTo>
                  <a:pt x="12643" y="8427"/>
                  <a:pt x="12540" y="8402"/>
                  <a:pt x="12502" y="8458"/>
                </a:cubicBezTo>
              </a:path>
              <a:path w="1812" h="621">
                <a:moveTo>
                  <a:pt x="10988" y="8632"/>
                </a:moveTo>
                <a:cubicBezTo>
                  <a:pt x="11178" y="8632"/>
                  <a:pt x="11369" y="8632"/>
                  <a:pt x="11559" y="8632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02120" y="3054240"/>
            <a:ext cx="169920" cy="81000"/>
          </a:xfrm>
          <a:custGeom>
            <a:avLst/>
            <a:gdLst/>
            <a:ahLst/>
            <a:rect l="l" t="t" r="r" b="b"/>
            <a:pathLst>
              <a:path w="472" h="224">
                <a:moveTo>
                  <a:pt x="13618" y="8483"/>
                </a:moveTo>
                <a:cubicBezTo>
                  <a:pt x="13742" y="8483"/>
                  <a:pt x="13866" y="8483"/>
                  <a:pt x="13990" y="8483"/>
                </a:cubicBezTo>
              </a:path>
              <a:path w="472" h="224">
                <a:moveTo>
                  <a:pt x="13667" y="8706"/>
                </a:moveTo>
                <a:cubicBezTo>
                  <a:pt x="13787" y="8706"/>
                  <a:pt x="13903" y="8687"/>
                  <a:pt x="14015" y="8682"/>
                </a:cubicBezTo>
                <a:cubicBezTo>
                  <a:pt x="14040" y="8682"/>
                  <a:pt x="14064" y="8682"/>
                  <a:pt x="14089" y="8682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57880" y="2946240"/>
            <a:ext cx="179280" cy="216000"/>
          </a:xfrm>
          <a:custGeom>
            <a:avLst/>
            <a:gdLst/>
            <a:ahLst/>
            <a:rect l="l" t="t" r="r" b="b"/>
            <a:pathLst>
              <a:path w="497" h="596">
                <a:moveTo>
                  <a:pt x="14883" y="8285"/>
                </a:moveTo>
                <a:cubicBezTo>
                  <a:pt x="14981" y="8215"/>
                  <a:pt x="15128" y="8148"/>
                  <a:pt x="15255" y="8186"/>
                </a:cubicBezTo>
                <a:cubicBezTo>
                  <a:pt x="15420" y="8235"/>
                  <a:pt x="15230" y="8450"/>
                  <a:pt x="15156" y="8483"/>
                </a:cubicBezTo>
                <a:cubicBezTo>
                  <a:pt x="15139" y="8483"/>
                  <a:pt x="15123" y="8483"/>
                  <a:pt x="15106" y="8483"/>
                </a:cubicBezTo>
                <a:cubicBezTo>
                  <a:pt x="15162" y="8483"/>
                  <a:pt x="15348" y="8477"/>
                  <a:pt x="15379" y="8533"/>
                </a:cubicBezTo>
                <a:cubicBezTo>
                  <a:pt x="15492" y="8740"/>
                  <a:pt x="15133" y="8774"/>
                  <a:pt x="15032" y="8781"/>
                </a:cubicBezTo>
                <a:cubicBezTo>
                  <a:pt x="15015" y="8781"/>
                  <a:pt x="14999" y="8781"/>
                  <a:pt x="14982" y="8781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06840" y="4894200"/>
            <a:ext cx="108000" cy="17640"/>
          </a:xfrm>
          <a:custGeom>
            <a:avLst/>
            <a:gdLst/>
            <a:ahLst/>
            <a:rect l="l" t="t" r="r" b="b"/>
            <a:pathLst>
              <a:path w="299" h="51">
                <a:moveTo>
                  <a:pt x="10021" y="13643"/>
                </a:moveTo>
                <a:cubicBezTo>
                  <a:pt x="10116" y="13617"/>
                  <a:pt x="10218" y="13607"/>
                  <a:pt x="10319" y="13593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90800" y="4749840"/>
            <a:ext cx="635040" cy="223920"/>
          </a:xfrm>
          <a:custGeom>
            <a:avLst/>
            <a:gdLst/>
            <a:ahLst/>
            <a:rect l="l" t="t" r="r" b="b"/>
            <a:pathLst>
              <a:path w="1763" h="621">
                <a:moveTo>
                  <a:pt x="5556" y="13221"/>
                </a:moveTo>
                <a:cubicBezTo>
                  <a:pt x="5509" y="13292"/>
                  <a:pt x="5659" y="13194"/>
                  <a:pt x="5705" y="13196"/>
                </a:cubicBezTo>
                <a:cubicBezTo>
                  <a:pt x="5892" y="13203"/>
                  <a:pt x="5777" y="13431"/>
                  <a:pt x="5705" y="13494"/>
                </a:cubicBezTo>
                <a:cubicBezTo>
                  <a:pt x="5677" y="13518"/>
                  <a:pt x="5665" y="13514"/>
                  <a:pt x="5655" y="13494"/>
                </a:cubicBezTo>
                <a:cubicBezTo>
                  <a:pt x="5800" y="13509"/>
                  <a:pt x="5911" y="13567"/>
                  <a:pt x="5829" y="13742"/>
                </a:cubicBezTo>
                <a:cubicBezTo>
                  <a:pt x="5798" y="13808"/>
                  <a:pt x="5617" y="13867"/>
                  <a:pt x="5556" y="13816"/>
                </a:cubicBezTo>
                <a:cubicBezTo>
                  <a:pt x="5556" y="13808"/>
                  <a:pt x="5556" y="13799"/>
                  <a:pt x="5556" y="13791"/>
                </a:cubicBezTo>
              </a:path>
              <a:path w="1763" h="621">
                <a:moveTo>
                  <a:pt x="6276" y="13320"/>
                </a:moveTo>
                <a:cubicBezTo>
                  <a:pt x="6234" y="13257"/>
                  <a:pt x="6176" y="13311"/>
                  <a:pt x="6127" y="13370"/>
                </a:cubicBezTo>
                <a:cubicBezTo>
                  <a:pt x="6047" y="13466"/>
                  <a:pt x="6007" y="13626"/>
                  <a:pt x="6102" y="13717"/>
                </a:cubicBezTo>
                <a:cubicBezTo>
                  <a:pt x="6220" y="13830"/>
                  <a:pt x="6389" y="13758"/>
                  <a:pt x="6474" y="13643"/>
                </a:cubicBezTo>
                <a:cubicBezTo>
                  <a:pt x="6552" y="13537"/>
                  <a:pt x="6507" y="13393"/>
                  <a:pt x="6400" y="13320"/>
                </a:cubicBezTo>
                <a:cubicBezTo>
                  <a:pt x="6367" y="13298"/>
                  <a:pt x="6291" y="13279"/>
                  <a:pt x="6251" y="13271"/>
                </a:cubicBezTo>
              </a:path>
              <a:path w="1763" h="621">
                <a:moveTo>
                  <a:pt x="6945" y="13370"/>
                </a:moveTo>
                <a:cubicBezTo>
                  <a:pt x="7027" y="13390"/>
                  <a:pt x="7131" y="13490"/>
                  <a:pt x="7193" y="13543"/>
                </a:cubicBezTo>
                <a:cubicBezTo>
                  <a:pt x="7239" y="13583"/>
                  <a:pt x="7242" y="13605"/>
                  <a:pt x="7293" y="13618"/>
                </a:cubicBezTo>
              </a:path>
              <a:path w="1763" h="621">
                <a:moveTo>
                  <a:pt x="7243" y="13271"/>
                </a:moveTo>
                <a:cubicBezTo>
                  <a:pt x="7165" y="13329"/>
                  <a:pt x="7134" y="13497"/>
                  <a:pt x="7069" y="13593"/>
                </a:cubicBezTo>
                <a:cubicBezTo>
                  <a:pt x="7038" y="13640"/>
                  <a:pt x="6977" y="13664"/>
                  <a:pt x="6995" y="13717"/>
                </a:cubicBezTo>
                <a:cubicBezTo>
                  <a:pt x="7018" y="13740"/>
                  <a:pt x="7026" y="13751"/>
                  <a:pt x="7020" y="13717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84320" y="4732200"/>
            <a:ext cx="500400" cy="206640"/>
          </a:xfrm>
          <a:custGeom>
            <a:avLst/>
            <a:gdLst/>
            <a:ahLst/>
            <a:rect l="l" t="t" r="r" b="b"/>
            <a:pathLst>
              <a:path w="1390" h="572">
                <a:moveTo>
                  <a:pt x="8037" y="13246"/>
                </a:moveTo>
                <a:cubicBezTo>
                  <a:pt x="8037" y="13130"/>
                  <a:pt x="8014" y="13427"/>
                  <a:pt x="8012" y="13543"/>
                </a:cubicBezTo>
                <a:cubicBezTo>
                  <a:pt x="8011" y="13601"/>
                  <a:pt x="8012" y="13659"/>
                  <a:pt x="8012" y="13717"/>
                </a:cubicBezTo>
              </a:path>
              <a:path w="1390" h="572">
                <a:moveTo>
                  <a:pt x="8632" y="13146"/>
                </a:moveTo>
                <a:cubicBezTo>
                  <a:pt x="8564" y="13162"/>
                  <a:pt x="8378" y="13157"/>
                  <a:pt x="8359" y="13196"/>
                </a:cubicBezTo>
                <a:cubicBezTo>
                  <a:pt x="8329" y="13257"/>
                  <a:pt x="8338" y="13352"/>
                  <a:pt x="8334" y="13419"/>
                </a:cubicBezTo>
                <a:cubicBezTo>
                  <a:pt x="8342" y="13427"/>
                  <a:pt x="8351" y="13436"/>
                  <a:pt x="8359" y="13444"/>
                </a:cubicBezTo>
                <a:cubicBezTo>
                  <a:pt x="8370" y="13433"/>
                  <a:pt x="8512" y="13344"/>
                  <a:pt x="8558" y="13370"/>
                </a:cubicBezTo>
                <a:cubicBezTo>
                  <a:pt x="8639" y="13415"/>
                  <a:pt x="8699" y="13550"/>
                  <a:pt x="8607" y="13618"/>
                </a:cubicBezTo>
                <a:cubicBezTo>
                  <a:pt x="8534" y="13672"/>
                  <a:pt x="8429" y="13678"/>
                  <a:pt x="8384" y="13618"/>
                </a:cubicBezTo>
              </a:path>
              <a:path w="1390" h="572">
                <a:moveTo>
                  <a:pt x="9004" y="13196"/>
                </a:moveTo>
                <a:cubicBezTo>
                  <a:pt x="8932" y="13240"/>
                  <a:pt x="8915" y="13329"/>
                  <a:pt x="8905" y="13419"/>
                </a:cubicBezTo>
                <a:cubicBezTo>
                  <a:pt x="8893" y="13523"/>
                  <a:pt x="8904" y="13635"/>
                  <a:pt x="9029" y="13667"/>
                </a:cubicBezTo>
                <a:cubicBezTo>
                  <a:pt x="9148" y="13697"/>
                  <a:pt x="9252" y="13621"/>
                  <a:pt x="9327" y="13568"/>
                </a:cubicBezTo>
                <a:cubicBezTo>
                  <a:pt x="9418" y="13503"/>
                  <a:pt x="9405" y="13449"/>
                  <a:pt x="9351" y="13345"/>
                </a:cubicBezTo>
                <a:cubicBezTo>
                  <a:pt x="9318" y="13282"/>
                  <a:pt x="9238" y="13251"/>
                  <a:pt x="9178" y="13221"/>
                </a:cubicBezTo>
                <a:cubicBezTo>
                  <a:pt x="9131" y="13197"/>
                  <a:pt x="9125" y="13196"/>
                  <a:pt x="9079" y="13196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81280" y="4822920"/>
            <a:ext cx="115920" cy="7920"/>
          </a:xfrm>
          <a:custGeom>
            <a:avLst/>
            <a:gdLst/>
            <a:ahLst/>
            <a:rect l="l" t="t" r="r" b="b"/>
            <a:pathLst>
              <a:path w="323" h="25">
                <a:moveTo>
                  <a:pt x="9947" y="13419"/>
                </a:moveTo>
                <a:cubicBezTo>
                  <a:pt x="10052" y="13419"/>
                  <a:pt x="10167" y="13372"/>
                  <a:pt x="10269" y="13395"/>
                </a:cubicBezTo>
                <a:cubicBezTo>
                  <a:pt x="10269" y="13403"/>
                  <a:pt x="10269" y="13411"/>
                  <a:pt x="10269" y="13419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19680" y="4749840"/>
            <a:ext cx="787320" cy="331920"/>
          </a:xfrm>
          <a:custGeom>
            <a:avLst/>
            <a:gdLst/>
            <a:ahLst/>
            <a:rect l="l" t="t" r="r" b="b"/>
            <a:pathLst>
              <a:path w="2184" h="919">
                <a:moveTo>
                  <a:pt x="10939" y="13271"/>
                </a:moveTo>
                <a:cubicBezTo>
                  <a:pt x="10954" y="13401"/>
                  <a:pt x="10959" y="13434"/>
                  <a:pt x="10889" y="13543"/>
                </a:cubicBezTo>
                <a:cubicBezTo>
                  <a:pt x="10909" y="13602"/>
                  <a:pt x="11110" y="13524"/>
                  <a:pt x="11162" y="13519"/>
                </a:cubicBezTo>
                <a:cubicBezTo>
                  <a:pt x="11236" y="13519"/>
                  <a:pt x="11269" y="13494"/>
                  <a:pt x="11261" y="13543"/>
                </a:cubicBezTo>
              </a:path>
              <a:path w="2184" h="919">
                <a:moveTo>
                  <a:pt x="11237" y="13221"/>
                </a:moveTo>
                <a:cubicBezTo>
                  <a:pt x="11254" y="13397"/>
                  <a:pt x="11261" y="13565"/>
                  <a:pt x="11261" y="13742"/>
                </a:cubicBezTo>
                <a:cubicBezTo>
                  <a:pt x="11261" y="13758"/>
                  <a:pt x="11261" y="13775"/>
                  <a:pt x="11261" y="13791"/>
                </a:cubicBezTo>
              </a:path>
              <a:path w="2184" h="919">
                <a:moveTo>
                  <a:pt x="11782" y="13196"/>
                </a:moveTo>
                <a:cubicBezTo>
                  <a:pt x="11718" y="13231"/>
                  <a:pt x="11550" y="13253"/>
                  <a:pt x="11534" y="13320"/>
                </a:cubicBezTo>
                <a:cubicBezTo>
                  <a:pt x="11522" y="13370"/>
                  <a:pt x="11534" y="13442"/>
                  <a:pt x="11534" y="13494"/>
                </a:cubicBezTo>
                <a:cubicBezTo>
                  <a:pt x="11623" y="13479"/>
                  <a:pt x="11693" y="13420"/>
                  <a:pt x="11782" y="13469"/>
                </a:cubicBezTo>
                <a:cubicBezTo>
                  <a:pt x="11937" y="13554"/>
                  <a:pt x="11777" y="13726"/>
                  <a:pt x="11683" y="13767"/>
                </a:cubicBezTo>
                <a:cubicBezTo>
                  <a:pt x="11593" y="13789"/>
                  <a:pt x="11569" y="13797"/>
                  <a:pt x="11509" y="13791"/>
                </a:cubicBezTo>
              </a:path>
              <a:path w="2184" h="919">
                <a:moveTo>
                  <a:pt x="12328" y="13295"/>
                </a:moveTo>
                <a:cubicBezTo>
                  <a:pt x="12237" y="13295"/>
                  <a:pt x="12229" y="13287"/>
                  <a:pt x="12154" y="13370"/>
                </a:cubicBezTo>
                <a:cubicBezTo>
                  <a:pt x="12068" y="13466"/>
                  <a:pt x="12047" y="13547"/>
                  <a:pt x="12030" y="13667"/>
                </a:cubicBezTo>
                <a:cubicBezTo>
                  <a:pt x="12116" y="13732"/>
                  <a:pt x="12300" y="13753"/>
                  <a:pt x="12402" y="13643"/>
                </a:cubicBezTo>
                <a:cubicBezTo>
                  <a:pt x="12500" y="13537"/>
                  <a:pt x="12456" y="13335"/>
                  <a:pt x="12328" y="13271"/>
                </a:cubicBezTo>
                <a:cubicBezTo>
                  <a:pt x="12274" y="13244"/>
                  <a:pt x="12180" y="13279"/>
                  <a:pt x="12129" y="13295"/>
                </a:cubicBezTo>
              </a:path>
              <a:path w="2184" h="919">
                <a:moveTo>
                  <a:pt x="12774" y="13271"/>
                </a:moveTo>
                <a:cubicBezTo>
                  <a:pt x="12743" y="13349"/>
                  <a:pt x="12720" y="13405"/>
                  <a:pt x="12700" y="13494"/>
                </a:cubicBezTo>
                <a:cubicBezTo>
                  <a:pt x="12685" y="13563"/>
                  <a:pt x="12650" y="13611"/>
                  <a:pt x="12700" y="13667"/>
                </a:cubicBezTo>
                <a:cubicBezTo>
                  <a:pt x="12747" y="13719"/>
                  <a:pt x="12802" y="13736"/>
                  <a:pt x="12874" y="13717"/>
                </a:cubicBezTo>
                <a:cubicBezTo>
                  <a:pt x="12922" y="13704"/>
                  <a:pt x="13029" y="13632"/>
                  <a:pt x="13047" y="13593"/>
                </a:cubicBezTo>
                <a:cubicBezTo>
                  <a:pt x="13068" y="13546"/>
                  <a:pt x="13074" y="13463"/>
                  <a:pt x="13047" y="13419"/>
                </a:cubicBezTo>
                <a:cubicBezTo>
                  <a:pt x="13018" y="13372"/>
                  <a:pt x="12976" y="13316"/>
                  <a:pt x="12923" y="13295"/>
                </a:cubicBezTo>
                <a:cubicBezTo>
                  <a:pt x="12859" y="13269"/>
                  <a:pt x="12850" y="13246"/>
                  <a:pt x="12774" y="13246"/>
                </a:cubicBezTo>
              </a:path>
              <a:path w="2184" h="919">
                <a:moveTo>
                  <a:pt x="11435" y="13891"/>
                </a:moveTo>
                <a:cubicBezTo>
                  <a:pt x="11435" y="13954"/>
                  <a:pt x="11451" y="14034"/>
                  <a:pt x="11410" y="14089"/>
                </a:cubicBezTo>
                <a:cubicBezTo>
                  <a:pt x="11394" y="14097"/>
                  <a:pt x="11377" y="14106"/>
                  <a:pt x="11361" y="1411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40280" y="4803840"/>
            <a:ext cx="581040" cy="357120"/>
          </a:xfrm>
          <a:custGeom>
            <a:avLst/>
            <a:gdLst/>
            <a:ahLst/>
            <a:rect l="l" t="t" r="r" b="b"/>
            <a:pathLst>
              <a:path w="1614" h="993">
                <a:moveTo>
                  <a:pt x="16346" y="13370"/>
                </a:moveTo>
                <a:cubicBezTo>
                  <a:pt x="16383" y="13444"/>
                  <a:pt x="16508" y="13846"/>
                  <a:pt x="16644" y="13667"/>
                </a:cubicBezTo>
                <a:cubicBezTo>
                  <a:pt x="16725" y="13560"/>
                  <a:pt x="16679" y="13462"/>
                  <a:pt x="16669" y="13345"/>
                </a:cubicBezTo>
                <a:cubicBezTo>
                  <a:pt x="16729" y="13556"/>
                  <a:pt x="16921" y="13801"/>
                  <a:pt x="16818" y="14039"/>
                </a:cubicBezTo>
                <a:cubicBezTo>
                  <a:pt x="16702" y="14306"/>
                  <a:pt x="16388" y="14377"/>
                  <a:pt x="16222" y="14238"/>
                </a:cubicBezTo>
              </a:path>
              <a:path w="1614" h="993">
                <a:moveTo>
                  <a:pt x="16867" y="13643"/>
                </a:moveTo>
                <a:cubicBezTo>
                  <a:pt x="16959" y="13621"/>
                  <a:pt x="17143" y="13641"/>
                  <a:pt x="17090" y="13519"/>
                </a:cubicBezTo>
                <a:cubicBezTo>
                  <a:pt x="17049" y="13436"/>
                  <a:pt x="17050" y="13410"/>
                  <a:pt x="16991" y="13395"/>
                </a:cubicBezTo>
                <a:cubicBezTo>
                  <a:pt x="16899" y="13477"/>
                  <a:pt x="16740" y="13695"/>
                  <a:pt x="16892" y="13816"/>
                </a:cubicBezTo>
                <a:cubicBezTo>
                  <a:pt x="17031" y="13927"/>
                  <a:pt x="17244" y="13706"/>
                  <a:pt x="17338" y="13643"/>
                </a:cubicBezTo>
              </a:path>
              <a:path w="1614" h="993">
                <a:moveTo>
                  <a:pt x="17413" y="13395"/>
                </a:moveTo>
                <a:cubicBezTo>
                  <a:pt x="17313" y="13419"/>
                  <a:pt x="17279" y="13428"/>
                  <a:pt x="17239" y="13494"/>
                </a:cubicBezTo>
                <a:cubicBezTo>
                  <a:pt x="17373" y="13560"/>
                  <a:pt x="17538" y="13552"/>
                  <a:pt x="17686" y="13593"/>
                </a:cubicBezTo>
                <a:cubicBezTo>
                  <a:pt x="17686" y="13816"/>
                  <a:pt x="17604" y="13815"/>
                  <a:pt x="17388" y="13791"/>
                </a:cubicBezTo>
              </a:path>
              <a:path w="1614" h="993">
                <a:moveTo>
                  <a:pt x="16421" y="14163"/>
                </a:moveTo>
                <a:cubicBezTo>
                  <a:pt x="16833" y="14100"/>
                  <a:pt x="17244" y="14059"/>
                  <a:pt x="17661" y="14039"/>
                </a:cubicBezTo>
                <a:cubicBezTo>
                  <a:pt x="17769" y="14039"/>
                  <a:pt x="17777" y="14039"/>
                  <a:pt x="17835" y="14039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62160" y="6446880"/>
            <a:ext cx="9720" cy="189000"/>
          </a:xfrm>
          <a:custGeom>
            <a:avLst/>
            <a:gdLst/>
            <a:ahLst/>
            <a:rect l="l" t="t" r="r" b="b"/>
            <a:pathLst>
              <a:path w="26" h="522">
                <a:moveTo>
                  <a:pt x="8508" y="17909"/>
                </a:moveTo>
                <a:cubicBezTo>
                  <a:pt x="8508" y="17984"/>
                  <a:pt x="8513" y="18026"/>
                  <a:pt x="8533" y="18083"/>
                </a:cubicBezTo>
              </a:path>
              <a:path w="26" h="522">
                <a:moveTo>
                  <a:pt x="8533" y="18405"/>
                </a:moveTo>
                <a:cubicBezTo>
                  <a:pt x="8533" y="18413"/>
                  <a:pt x="8533" y="18422"/>
                  <a:pt x="8533" y="18430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67000" y="6446880"/>
            <a:ext cx="365040" cy="233280"/>
          </a:xfrm>
          <a:custGeom>
            <a:avLst/>
            <a:gdLst/>
            <a:ahLst/>
            <a:rect l="l" t="t" r="r" b="b"/>
            <a:pathLst>
              <a:path w="1018" h="646">
                <a:moveTo>
                  <a:pt x="6921" y="17983"/>
                </a:moveTo>
                <a:cubicBezTo>
                  <a:pt x="6957" y="17974"/>
                  <a:pt x="6966" y="17962"/>
                  <a:pt x="6995" y="17934"/>
                </a:cubicBezTo>
                <a:cubicBezTo>
                  <a:pt x="6887" y="17880"/>
                  <a:pt x="6751" y="17942"/>
                  <a:pt x="6648" y="18008"/>
                </a:cubicBezTo>
                <a:cubicBezTo>
                  <a:pt x="6602" y="18054"/>
                  <a:pt x="6587" y="18066"/>
                  <a:pt x="6573" y="18107"/>
                </a:cubicBezTo>
                <a:cubicBezTo>
                  <a:pt x="6689" y="18223"/>
                  <a:pt x="6842" y="18195"/>
                  <a:pt x="6970" y="18306"/>
                </a:cubicBezTo>
                <a:cubicBezTo>
                  <a:pt x="7084" y="18405"/>
                  <a:pt x="6800" y="18526"/>
                  <a:pt x="6747" y="18554"/>
                </a:cubicBezTo>
                <a:cubicBezTo>
                  <a:pt x="6739" y="18554"/>
                  <a:pt x="6730" y="18554"/>
                  <a:pt x="6722" y="18554"/>
                </a:cubicBezTo>
                <a:cubicBezTo>
                  <a:pt x="6759" y="18368"/>
                  <a:pt x="6803" y="18285"/>
                  <a:pt x="6896" y="18132"/>
                </a:cubicBezTo>
                <a:cubicBezTo>
                  <a:pt x="6919" y="18094"/>
                  <a:pt x="6918" y="18071"/>
                  <a:pt x="6970" y="18058"/>
                </a:cubicBezTo>
              </a:path>
              <a:path w="1018" h="646">
                <a:moveTo>
                  <a:pt x="7293" y="17983"/>
                </a:moveTo>
                <a:cubicBezTo>
                  <a:pt x="7175" y="18007"/>
                  <a:pt x="7158" y="18121"/>
                  <a:pt x="7144" y="18231"/>
                </a:cubicBezTo>
                <a:cubicBezTo>
                  <a:pt x="7132" y="18325"/>
                  <a:pt x="7106" y="18508"/>
                  <a:pt x="7268" y="18479"/>
                </a:cubicBezTo>
                <a:cubicBezTo>
                  <a:pt x="7390" y="18457"/>
                  <a:pt x="7520" y="18362"/>
                  <a:pt x="7565" y="18256"/>
                </a:cubicBezTo>
                <a:cubicBezTo>
                  <a:pt x="7588" y="18202"/>
                  <a:pt x="7587" y="18066"/>
                  <a:pt x="7516" y="18033"/>
                </a:cubicBezTo>
                <a:cubicBezTo>
                  <a:pt x="7471" y="18012"/>
                  <a:pt x="7358" y="17961"/>
                  <a:pt x="7342" y="18008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73240" y="6429240"/>
            <a:ext cx="357480" cy="206640"/>
          </a:xfrm>
          <a:custGeom>
            <a:avLst/>
            <a:gdLst/>
            <a:ahLst/>
            <a:rect l="l" t="t" r="r" b="b"/>
            <a:pathLst>
              <a:path w="993" h="572">
                <a:moveTo>
                  <a:pt x="8260" y="18207"/>
                </a:moveTo>
                <a:cubicBezTo>
                  <a:pt x="8395" y="18207"/>
                  <a:pt x="8523" y="18189"/>
                  <a:pt x="8657" y="18182"/>
                </a:cubicBezTo>
                <a:cubicBezTo>
                  <a:pt x="8665" y="18182"/>
                  <a:pt x="8674" y="18182"/>
                  <a:pt x="8682" y="18182"/>
                </a:cubicBezTo>
              </a:path>
              <a:path w="993" h="572">
                <a:moveTo>
                  <a:pt x="9252" y="17859"/>
                </a:moveTo>
                <a:cubicBezTo>
                  <a:pt x="9118" y="17881"/>
                  <a:pt x="9019" y="17939"/>
                  <a:pt x="8905" y="18008"/>
                </a:cubicBezTo>
                <a:cubicBezTo>
                  <a:pt x="8952" y="18127"/>
                  <a:pt x="9086" y="18104"/>
                  <a:pt x="9178" y="18182"/>
                </a:cubicBezTo>
                <a:cubicBezTo>
                  <a:pt x="9312" y="18296"/>
                  <a:pt x="9142" y="18386"/>
                  <a:pt x="9054" y="18430"/>
                </a:cubicBezTo>
                <a:cubicBezTo>
                  <a:pt x="8928" y="18274"/>
                  <a:pt x="8965" y="18241"/>
                  <a:pt x="9079" y="18083"/>
                </a:cubicBezTo>
                <a:cubicBezTo>
                  <a:pt x="9139" y="18002"/>
                  <a:pt x="9153" y="17989"/>
                  <a:pt x="9178" y="1793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643200" y="6518160"/>
            <a:ext cx="162000" cy="98640"/>
          </a:xfrm>
          <a:custGeom>
            <a:avLst/>
            <a:gdLst/>
            <a:ahLst/>
            <a:rect l="l" t="t" r="r" b="b"/>
            <a:pathLst>
              <a:path w="448" h="274">
                <a:moveTo>
                  <a:pt x="10120" y="18107"/>
                </a:moveTo>
                <a:cubicBezTo>
                  <a:pt x="10237" y="18107"/>
                  <a:pt x="10484" y="18051"/>
                  <a:pt x="10468" y="18157"/>
                </a:cubicBezTo>
              </a:path>
              <a:path w="448" h="274">
                <a:moveTo>
                  <a:pt x="10170" y="18380"/>
                </a:moveTo>
                <a:cubicBezTo>
                  <a:pt x="10293" y="18359"/>
                  <a:pt x="10418" y="18341"/>
                  <a:pt x="10542" y="18331"/>
                </a:cubicBezTo>
                <a:cubicBezTo>
                  <a:pt x="10550" y="18331"/>
                  <a:pt x="10559" y="18331"/>
                  <a:pt x="10567" y="18331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89240" y="6419880"/>
            <a:ext cx="250920" cy="216000"/>
          </a:xfrm>
          <a:custGeom>
            <a:avLst/>
            <a:gdLst/>
            <a:ahLst/>
            <a:rect l="l" t="t" r="r" b="b"/>
            <a:pathLst>
              <a:path w="695" h="596">
                <a:moveTo>
                  <a:pt x="11361" y="17835"/>
                </a:moveTo>
                <a:cubicBezTo>
                  <a:pt x="11361" y="17997"/>
                  <a:pt x="11394" y="18146"/>
                  <a:pt x="11410" y="18306"/>
                </a:cubicBezTo>
                <a:cubicBezTo>
                  <a:pt x="11417" y="18381"/>
                  <a:pt x="11378" y="18424"/>
                  <a:pt x="11435" y="18405"/>
                </a:cubicBezTo>
              </a:path>
              <a:path w="695" h="596">
                <a:moveTo>
                  <a:pt x="11782" y="17909"/>
                </a:moveTo>
                <a:cubicBezTo>
                  <a:pt x="11760" y="17844"/>
                  <a:pt x="11743" y="17898"/>
                  <a:pt x="11733" y="17934"/>
                </a:cubicBezTo>
                <a:cubicBezTo>
                  <a:pt x="11702" y="18042"/>
                  <a:pt x="11641" y="18166"/>
                  <a:pt x="11658" y="18281"/>
                </a:cubicBezTo>
                <a:cubicBezTo>
                  <a:pt x="11674" y="18388"/>
                  <a:pt x="11817" y="18428"/>
                  <a:pt x="11906" y="18380"/>
                </a:cubicBezTo>
                <a:cubicBezTo>
                  <a:pt x="11964" y="18349"/>
                  <a:pt x="12058" y="18199"/>
                  <a:pt x="12055" y="18132"/>
                </a:cubicBezTo>
                <a:cubicBezTo>
                  <a:pt x="12051" y="18037"/>
                  <a:pt x="12018" y="17976"/>
                  <a:pt x="11931" y="17934"/>
                </a:cubicBezTo>
                <a:cubicBezTo>
                  <a:pt x="11895" y="17917"/>
                  <a:pt x="11802" y="17861"/>
                  <a:pt x="11757" y="17884"/>
                </a:cubicBezTo>
                <a:cubicBezTo>
                  <a:pt x="11749" y="17892"/>
                  <a:pt x="11741" y="17901"/>
                  <a:pt x="11733" y="17909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76880" y="6465960"/>
            <a:ext cx="54000" cy="204840"/>
          </a:xfrm>
          <a:custGeom>
            <a:avLst/>
            <a:gdLst/>
            <a:ahLst/>
            <a:rect l="l" t="t" r="r" b="b"/>
            <a:pathLst>
              <a:path w="149" h="571">
                <a:moveTo>
                  <a:pt x="14660" y="17959"/>
                </a:moveTo>
                <a:cubicBezTo>
                  <a:pt x="14678" y="18143"/>
                  <a:pt x="14717" y="18307"/>
                  <a:pt x="14784" y="18479"/>
                </a:cubicBezTo>
                <a:cubicBezTo>
                  <a:pt x="14804" y="18520"/>
                  <a:pt x="14812" y="18547"/>
                  <a:pt x="14808" y="1850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95960" y="6429240"/>
            <a:ext cx="517320" cy="330480"/>
          </a:xfrm>
          <a:custGeom>
            <a:avLst/>
            <a:gdLst/>
            <a:ahLst/>
            <a:rect l="l" t="t" r="r" b="b"/>
            <a:pathLst>
              <a:path w="1440" h="919">
                <a:moveTo>
                  <a:pt x="14759" y="17884"/>
                </a:moveTo>
                <a:cubicBezTo>
                  <a:pt x="14747" y="17932"/>
                  <a:pt x="14916" y="18153"/>
                  <a:pt x="14982" y="18207"/>
                </a:cubicBezTo>
                <a:cubicBezTo>
                  <a:pt x="15096" y="18299"/>
                  <a:pt x="15319" y="18370"/>
                  <a:pt x="15404" y="18455"/>
                </a:cubicBezTo>
                <a:cubicBezTo>
                  <a:pt x="15404" y="18347"/>
                  <a:pt x="15275" y="18236"/>
                  <a:pt x="15230" y="18132"/>
                </a:cubicBezTo>
                <a:cubicBezTo>
                  <a:pt x="15189" y="18037"/>
                  <a:pt x="15156" y="17944"/>
                  <a:pt x="15180" y="17859"/>
                </a:cubicBezTo>
              </a:path>
              <a:path w="1440" h="919">
                <a:moveTo>
                  <a:pt x="15577" y="18083"/>
                </a:moveTo>
                <a:cubicBezTo>
                  <a:pt x="15484" y="18059"/>
                  <a:pt x="15485" y="18060"/>
                  <a:pt x="15453" y="18182"/>
                </a:cubicBezTo>
                <a:cubicBezTo>
                  <a:pt x="15400" y="18387"/>
                  <a:pt x="15454" y="18473"/>
                  <a:pt x="15627" y="18554"/>
                </a:cubicBezTo>
                <a:cubicBezTo>
                  <a:pt x="15774" y="18429"/>
                  <a:pt x="15888" y="18326"/>
                  <a:pt x="15726" y="18157"/>
                </a:cubicBezTo>
                <a:cubicBezTo>
                  <a:pt x="15650" y="18078"/>
                  <a:pt x="15605" y="18113"/>
                  <a:pt x="15528" y="18157"/>
                </a:cubicBezTo>
              </a:path>
              <a:path w="1440" h="919">
                <a:moveTo>
                  <a:pt x="14709" y="18777"/>
                </a:moveTo>
                <a:cubicBezTo>
                  <a:pt x="14860" y="18734"/>
                  <a:pt x="14991" y="18722"/>
                  <a:pt x="15156" y="18703"/>
                </a:cubicBezTo>
                <a:cubicBezTo>
                  <a:pt x="15436" y="18670"/>
                  <a:pt x="15717" y="18622"/>
                  <a:pt x="15999" y="18604"/>
                </a:cubicBezTo>
                <a:cubicBezTo>
                  <a:pt x="16090" y="18604"/>
                  <a:pt x="16098" y="18604"/>
                  <a:pt x="16148" y="1860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90440" y="22860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Application:</a:t>
            </a:r>
            <a:r>
              <a:rPr b="0" lang="en-US" sz="3200" spc="-1" strike="noStrike">
                <a:solidFill>
                  <a:srgbClr val="66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33ccff"/>
                </a:solidFill>
                <a:latin typeface="Verdana"/>
              </a:rPr>
              <a:t>Eric worked quickly through his unit test and wrote down 352.86 as the answer to his last problem which was 58.81 x 6. Estimate (mentally) to see if you think that his answer is reasonable.  Be prepared to explain your decision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808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5276880" y="3571920"/>
            <a:ext cx="1224000" cy="27000"/>
          </a:xfrm>
          <a:custGeom>
            <a:avLst/>
            <a:gdLst/>
            <a:ahLst/>
            <a:rect l="l" t="t" r="r" b="b"/>
            <a:pathLst>
              <a:path w="3399" h="75">
                <a:moveTo>
                  <a:pt x="18033" y="9922"/>
                </a:moveTo>
                <a:cubicBezTo>
                  <a:pt x="18041" y="9947"/>
                  <a:pt x="18050" y="9971"/>
                  <a:pt x="18058" y="9996"/>
                </a:cubicBezTo>
              </a:path>
              <a:path w="3399" h="75">
                <a:moveTo>
                  <a:pt x="14660" y="9947"/>
                </a:moveTo>
                <a:cubicBezTo>
                  <a:pt x="14793" y="9941"/>
                  <a:pt x="14923" y="9929"/>
                  <a:pt x="15056" y="9922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28960" y="3340080"/>
            <a:ext cx="982800" cy="339840"/>
          </a:xfrm>
          <a:custGeom>
            <a:avLst/>
            <a:gdLst/>
            <a:ahLst/>
            <a:rect l="l" t="t" r="r" b="b"/>
            <a:pathLst>
              <a:path w="2729" h="944">
                <a:moveTo>
                  <a:pt x="8830" y="9277"/>
                </a:moveTo>
                <a:cubicBezTo>
                  <a:pt x="8692" y="9316"/>
                  <a:pt x="8553" y="9352"/>
                  <a:pt x="8409" y="9376"/>
                </a:cubicBezTo>
                <a:cubicBezTo>
                  <a:pt x="8373" y="9382"/>
                  <a:pt x="8336" y="9617"/>
                  <a:pt x="8334" y="9624"/>
                </a:cubicBezTo>
                <a:cubicBezTo>
                  <a:pt x="8315" y="9723"/>
                  <a:pt x="8307" y="9739"/>
                  <a:pt x="8310" y="9798"/>
                </a:cubicBezTo>
                <a:cubicBezTo>
                  <a:pt x="8416" y="9772"/>
                  <a:pt x="8705" y="9657"/>
                  <a:pt x="8781" y="9823"/>
                </a:cubicBezTo>
                <a:cubicBezTo>
                  <a:pt x="8912" y="10112"/>
                  <a:pt x="8464" y="10243"/>
                  <a:pt x="8285" y="10220"/>
                </a:cubicBezTo>
                <a:cubicBezTo>
                  <a:pt x="8082" y="10194"/>
                  <a:pt x="8146" y="10118"/>
                  <a:pt x="8210" y="10021"/>
                </a:cubicBezTo>
              </a:path>
              <a:path w="2729" h="944">
                <a:moveTo>
                  <a:pt x="9227" y="9401"/>
                </a:moveTo>
                <a:cubicBezTo>
                  <a:pt x="9047" y="9448"/>
                  <a:pt x="8960" y="9470"/>
                  <a:pt x="8905" y="9649"/>
                </a:cubicBezTo>
                <a:cubicBezTo>
                  <a:pt x="8988" y="9712"/>
                  <a:pt x="9427" y="9882"/>
                  <a:pt x="9277" y="10046"/>
                </a:cubicBezTo>
                <a:cubicBezTo>
                  <a:pt x="9133" y="10117"/>
                  <a:pt x="9089" y="10142"/>
                  <a:pt x="8979" y="10120"/>
                </a:cubicBezTo>
                <a:cubicBezTo>
                  <a:pt x="8991" y="9886"/>
                  <a:pt x="9164" y="9717"/>
                  <a:pt x="9227" y="9475"/>
                </a:cubicBezTo>
                <a:cubicBezTo>
                  <a:pt x="9243" y="9415"/>
                  <a:pt x="9172" y="9327"/>
                  <a:pt x="9227" y="9550"/>
                </a:cubicBezTo>
              </a:path>
              <a:path w="2729" h="944">
                <a:moveTo>
                  <a:pt x="9649" y="9996"/>
                </a:moveTo>
                <a:cubicBezTo>
                  <a:pt x="9649" y="10036"/>
                  <a:pt x="9645" y="10184"/>
                  <a:pt x="9674" y="10071"/>
                </a:cubicBezTo>
              </a:path>
              <a:path w="2729" h="944">
                <a:moveTo>
                  <a:pt x="10269" y="9351"/>
                </a:moveTo>
                <a:cubicBezTo>
                  <a:pt x="10092" y="9424"/>
                  <a:pt x="10072" y="9412"/>
                  <a:pt x="9996" y="9575"/>
                </a:cubicBezTo>
                <a:cubicBezTo>
                  <a:pt x="10191" y="9710"/>
                  <a:pt x="10391" y="9756"/>
                  <a:pt x="10418" y="9971"/>
                </a:cubicBezTo>
                <a:cubicBezTo>
                  <a:pt x="10236" y="10038"/>
                  <a:pt x="10226" y="10066"/>
                  <a:pt x="10071" y="9947"/>
                </a:cubicBezTo>
                <a:cubicBezTo>
                  <a:pt x="10150" y="9800"/>
                  <a:pt x="10360" y="9577"/>
                  <a:pt x="10393" y="9426"/>
                </a:cubicBezTo>
                <a:cubicBezTo>
                  <a:pt x="10395" y="9416"/>
                  <a:pt x="10308" y="9408"/>
                  <a:pt x="10418" y="9426"/>
                </a:cubicBezTo>
              </a:path>
              <a:path w="2729" h="944">
                <a:moveTo>
                  <a:pt x="10765" y="9351"/>
                </a:moveTo>
                <a:cubicBezTo>
                  <a:pt x="10787" y="9527"/>
                  <a:pt x="10837" y="9699"/>
                  <a:pt x="10864" y="9872"/>
                </a:cubicBezTo>
                <a:cubicBezTo>
                  <a:pt x="10864" y="9930"/>
                  <a:pt x="10864" y="9938"/>
                  <a:pt x="10864" y="9971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60880" y="3357720"/>
            <a:ext cx="125280" cy="214200"/>
          </a:xfrm>
          <a:custGeom>
            <a:avLst/>
            <a:gdLst/>
            <a:ahLst/>
            <a:rect l="l" t="t" r="r" b="b"/>
            <a:pathLst>
              <a:path w="348" h="596">
                <a:moveTo>
                  <a:pt x="11559" y="9451"/>
                </a:moveTo>
                <a:cubicBezTo>
                  <a:pt x="11589" y="9569"/>
                  <a:pt x="11747" y="9685"/>
                  <a:pt x="11832" y="9773"/>
                </a:cubicBezTo>
                <a:cubicBezTo>
                  <a:pt x="11887" y="9828"/>
                  <a:pt x="11912" y="9826"/>
                  <a:pt x="11906" y="9872"/>
                </a:cubicBezTo>
              </a:path>
              <a:path w="348" h="596">
                <a:moveTo>
                  <a:pt x="11807" y="9327"/>
                </a:moveTo>
                <a:cubicBezTo>
                  <a:pt x="11743" y="9483"/>
                  <a:pt x="11727" y="9696"/>
                  <a:pt x="11708" y="9872"/>
                </a:cubicBezTo>
                <a:cubicBezTo>
                  <a:pt x="11708" y="9889"/>
                  <a:pt x="11708" y="9905"/>
                  <a:pt x="11708" y="9922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3340080"/>
            <a:ext cx="231840" cy="268200"/>
          </a:xfrm>
          <a:custGeom>
            <a:avLst/>
            <a:gdLst/>
            <a:ahLst/>
            <a:rect l="l" t="t" r="r" b="b"/>
            <a:pathLst>
              <a:path w="646" h="745">
                <a:moveTo>
                  <a:pt x="12700" y="9277"/>
                </a:moveTo>
                <a:cubicBezTo>
                  <a:pt x="12758" y="9296"/>
                  <a:pt x="12725" y="9530"/>
                  <a:pt x="12725" y="9575"/>
                </a:cubicBezTo>
                <a:cubicBezTo>
                  <a:pt x="12725" y="9722"/>
                  <a:pt x="12695" y="9974"/>
                  <a:pt x="12874" y="10021"/>
                </a:cubicBezTo>
                <a:cubicBezTo>
                  <a:pt x="13043" y="10066"/>
                  <a:pt x="13236" y="9999"/>
                  <a:pt x="13320" y="9847"/>
                </a:cubicBezTo>
                <a:cubicBezTo>
                  <a:pt x="13360" y="9776"/>
                  <a:pt x="13366" y="9634"/>
                  <a:pt x="13246" y="9624"/>
                </a:cubicBezTo>
                <a:cubicBezTo>
                  <a:pt x="13106" y="9613"/>
                  <a:pt x="13035" y="9817"/>
                  <a:pt x="13047" y="9922"/>
                </a:cubicBezTo>
                <a:cubicBezTo>
                  <a:pt x="13052" y="9961"/>
                  <a:pt x="13088" y="9985"/>
                  <a:pt x="13097" y="10021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41960" y="3303720"/>
            <a:ext cx="1108080" cy="376200"/>
          </a:xfrm>
          <a:custGeom>
            <a:avLst/>
            <a:gdLst/>
            <a:ahLst/>
            <a:rect l="l" t="t" r="r" b="b"/>
            <a:pathLst>
              <a:path w="3077" h="1043">
                <a:moveTo>
                  <a:pt x="15553" y="9401"/>
                </a:moveTo>
                <a:cubicBezTo>
                  <a:pt x="15577" y="9475"/>
                  <a:pt x="15798" y="9334"/>
                  <a:pt x="15825" y="9327"/>
                </a:cubicBezTo>
                <a:cubicBezTo>
                  <a:pt x="15987" y="9304"/>
                  <a:pt x="16037" y="9287"/>
                  <a:pt x="16098" y="9401"/>
                </a:cubicBezTo>
                <a:cubicBezTo>
                  <a:pt x="15984" y="9599"/>
                  <a:pt x="15907" y="9662"/>
                  <a:pt x="15726" y="9798"/>
                </a:cubicBezTo>
                <a:cubicBezTo>
                  <a:pt x="15875" y="9723"/>
                  <a:pt x="16032" y="9729"/>
                  <a:pt x="16024" y="9947"/>
                </a:cubicBezTo>
                <a:cubicBezTo>
                  <a:pt x="16015" y="10176"/>
                  <a:pt x="15610" y="10385"/>
                  <a:pt x="15453" y="10170"/>
                </a:cubicBezTo>
                <a:cubicBezTo>
                  <a:pt x="15461" y="10137"/>
                  <a:pt x="15470" y="10104"/>
                  <a:pt x="15478" y="10071"/>
                </a:cubicBezTo>
              </a:path>
              <a:path w="3077" h="1043">
                <a:moveTo>
                  <a:pt x="16718" y="9227"/>
                </a:moveTo>
                <a:cubicBezTo>
                  <a:pt x="16661" y="9227"/>
                  <a:pt x="16509" y="9200"/>
                  <a:pt x="16495" y="9252"/>
                </a:cubicBezTo>
                <a:cubicBezTo>
                  <a:pt x="16465" y="9361"/>
                  <a:pt x="16470" y="9465"/>
                  <a:pt x="16470" y="9575"/>
                </a:cubicBezTo>
                <a:cubicBezTo>
                  <a:pt x="16615" y="9546"/>
                  <a:pt x="16656" y="9459"/>
                  <a:pt x="16818" y="9550"/>
                </a:cubicBezTo>
                <a:cubicBezTo>
                  <a:pt x="17070" y="9691"/>
                  <a:pt x="16951" y="9975"/>
                  <a:pt x="16718" y="10046"/>
                </a:cubicBezTo>
                <a:cubicBezTo>
                  <a:pt x="16558" y="10046"/>
                  <a:pt x="16513" y="10051"/>
                  <a:pt x="16421" y="9996"/>
                </a:cubicBezTo>
              </a:path>
              <a:path w="3077" h="1043">
                <a:moveTo>
                  <a:pt x="17214" y="9277"/>
                </a:moveTo>
                <a:cubicBezTo>
                  <a:pt x="17194" y="9421"/>
                  <a:pt x="17194" y="9289"/>
                  <a:pt x="17289" y="9227"/>
                </a:cubicBezTo>
                <a:cubicBezTo>
                  <a:pt x="17531" y="9068"/>
                  <a:pt x="17649" y="9361"/>
                  <a:pt x="17636" y="9575"/>
                </a:cubicBezTo>
                <a:cubicBezTo>
                  <a:pt x="17617" y="9878"/>
                  <a:pt x="17379" y="9935"/>
                  <a:pt x="17140" y="9922"/>
                </a:cubicBezTo>
                <a:cubicBezTo>
                  <a:pt x="17123" y="9755"/>
                  <a:pt x="17236" y="9687"/>
                  <a:pt x="17413" y="9748"/>
                </a:cubicBezTo>
                <a:cubicBezTo>
                  <a:pt x="17558" y="9798"/>
                  <a:pt x="17468" y="10175"/>
                  <a:pt x="17611" y="10120"/>
                </a:cubicBezTo>
                <a:cubicBezTo>
                  <a:pt x="17619" y="10104"/>
                  <a:pt x="17628" y="10087"/>
                  <a:pt x="17636" y="10071"/>
                </a:cubicBezTo>
              </a:path>
              <a:path w="3077" h="1043">
                <a:moveTo>
                  <a:pt x="14560" y="9723"/>
                </a:moveTo>
                <a:cubicBezTo>
                  <a:pt x="14672" y="9723"/>
                  <a:pt x="14770" y="9717"/>
                  <a:pt x="14883" y="9699"/>
                </a:cubicBezTo>
                <a:cubicBezTo>
                  <a:pt x="14974" y="9681"/>
                  <a:pt x="14981" y="9672"/>
                  <a:pt x="15032" y="967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43800" y="3303720"/>
            <a:ext cx="482400" cy="295200"/>
          </a:xfrm>
          <a:custGeom>
            <a:avLst/>
            <a:gdLst/>
            <a:ahLst/>
            <a:rect l="l" t="t" r="r" b="b"/>
            <a:pathLst>
              <a:path w="1340" h="819">
                <a:moveTo>
                  <a:pt x="19000" y="9302"/>
                </a:moveTo>
                <a:cubicBezTo>
                  <a:pt x="18883" y="9183"/>
                  <a:pt x="18662" y="9108"/>
                  <a:pt x="18504" y="9252"/>
                </a:cubicBezTo>
                <a:cubicBezTo>
                  <a:pt x="18488" y="9293"/>
                  <a:pt x="18471" y="9335"/>
                  <a:pt x="18455" y="9376"/>
                </a:cubicBezTo>
                <a:cubicBezTo>
                  <a:pt x="18643" y="9573"/>
                  <a:pt x="18849" y="9686"/>
                  <a:pt x="18876" y="9947"/>
                </a:cubicBezTo>
                <a:cubicBezTo>
                  <a:pt x="18608" y="9957"/>
                  <a:pt x="18466" y="9906"/>
                  <a:pt x="18653" y="9599"/>
                </a:cubicBezTo>
                <a:cubicBezTo>
                  <a:pt x="18671" y="9570"/>
                  <a:pt x="18822" y="9384"/>
                  <a:pt x="18876" y="9351"/>
                </a:cubicBezTo>
              </a:path>
              <a:path w="1340" h="819">
                <a:moveTo>
                  <a:pt x="19298" y="9178"/>
                </a:moveTo>
                <a:cubicBezTo>
                  <a:pt x="19267" y="9330"/>
                  <a:pt x="19192" y="9491"/>
                  <a:pt x="19174" y="9649"/>
                </a:cubicBezTo>
                <a:cubicBezTo>
                  <a:pt x="19149" y="9870"/>
                  <a:pt x="19249" y="10098"/>
                  <a:pt x="19521" y="9971"/>
                </a:cubicBezTo>
                <a:cubicBezTo>
                  <a:pt x="19743" y="9867"/>
                  <a:pt x="19769" y="9773"/>
                  <a:pt x="19769" y="9575"/>
                </a:cubicBezTo>
                <a:cubicBezTo>
                  <a:pt x="19616" y="9566"/>
                  <a:pt x="19402" y="9600"/>
                  <a:pt x="19422" y="9823"/>
                </a:cubicBezTo>
                <a:cubicBezTo>
                  <a:pt x="19460" y="9879"/>
                  <a:pt x="19455" y="9904"/>
                  <a:pt x="19496" y="9897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48120" y="4000680"/>
            <a:ext cx="189000" cy="98280"/>
          </a:xfrm>
          <a:custGeom>
            <a:avLst/>
            <a:gdLst/>
            <a:ahLst/>
            <a:rect l="l" t="t" r="r" b="b"/>
            <a:pathLst>
              <a:path w="522" h="274">
                <a:moveTo>
                  <a:pt x="13469" y="11162"/>
                </a:moveTo>
                <a:cubicBezTo>
                  <a:pt x="13564" y="11126"/>
                  <a:pt x="13704" y="11117"/>
                  <a:pt x="13816" y="11112"/>
                </a:cubicBezTo>
                <a:cubicBezTo>
                  <a:pt x="13833" y="11112"/>
                  <a:pt x="13849" y="11112"/>
                  <a:pt x="13866" y="11112"/>
                </a:cubicBezTo>
              </a:path>
              <a:path w="522" h="274">
                <a:moveTo>
                  <a:pt x="13643" y="11361"/>
                </a:moveTo>
                <a:cubicBezTo>
                  <a:pt x="13757" y="11394"/>
                  <a:pt x="13851" y="11382"/>
                  <a:pt x="13965" y="11361"/>
                </a:cubicBezTo>
                <a:cubicBezTo>
                  <a:pt x="13973" y="11361"/>
                  <a:pt x="13982" y="11361"/>
                  <a:pt x="13990" y="11361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27320" y="3963960"/>
            <a:ext cx="81000" cy="206280"/>
          </a:xfrm>
          <a:custGeom>
            <a:avLst/>
            <a:gdLst/>
            <a:ahLst/>
            <a:rect l="l" t="t" r="r" b="b"/>
            <a:pathLst>
              <a:path w="224" h="572">
                <a:moveTo>
                  <a:pt x="11410" y="11013"/>
                </a:moveTo>
                <a:cubicBezTo>
                  <a:pt x="11307" y="11176"/>
                  <a:pt x="11221" y="11341"/>
                  <a:pt x="11187" y="11534"/>
                </a:cubicBezTo>
                <a:cubicBezTo>
                  <a:pt x="11187" y="11551"/>
                  <a:pt x="11187" y="11567"/>
                  <a:pt x="11187" y="1158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0080" y="3884760"/>
            <a:ext cx="401760" cy="276120"/>
          </a:xfrm>
          <a:custGeom>
            <a:avLst/>
            <a:gdLst/>
            <a:ahLst/>
            <a:rect l="l" t="t" r="r" b="b"/>
            <a:pathLst>
              <a:path w="1117" h="770">
                <a:moveTo>
                  <a:pt x="9475" y="10840"/>
                </a:moveTo>
                <a:cubicBezTo>
                  <a:pt x="9446" y="10799"/>
                  <a:pt x="9450" y="10776"/>
                  <a:pt x="9426" y="10840"/>
                </a:cubicBezTo>
                <a:cubicBezTo>
                  <a:pt x="9367" y="11000"/>
                  <a:pt x="9122" y="11462"/>
                  <a:pt x="9376" y="11559"/>
                </a:cubicBezTo>
                <a:cubicBezTo>
                  <a:pt x="9581" y="11637"/>
                  <a:pt x="9786" y="11423"/>
                  <a:pt x="9798" y="11237"/>
                </a:cubicBezTo>
                <a:cubicBezTo>
                  <a:pt x="9790" y="11220"/>
                  <a:pt x="9781" y="11204"/>
                  <a:pt x="9773" y="11187"/>
                </a:cubicBezTo>
                <a:cubicBezTo>
                  <a:pt x="9588" y="11214"/>
                  <a:pt x="9581" y="11315"/>
                  <a:pt x="9550" y="11485"/>
                </a:cubicBezTo>
                <a:cubicBezTo>
                  <a:pt x="9550" y="11562"/>
                  <a:pt x="9576" y="11568"/>
                  <a:pt x="9674" y="11485"/>
                </a:cubicBezTo>
              </a:path>
              <a:path w="1117" h="770">
                <a:moveTo>
                  <a:pt x="10096" y="10815"/>
                </a:moveTo>
                <a:cubicBezTo>
                  <a:pt x="9921" y="10917"/>
                  <a:pt x="9849" y="11122"/>
                  <a:pt x="9897" y="11336"/>
                </a:cubicBezTo>
                <a:cubicBezTo>
                  <a:pt x="9957" y="11603"/>
                  <a:pt x="10364" y="11483"/>
                  <a:pt x="10393" y="11261"/>
                </a:cubicBezTo>
                <a:cubicBezTo>
                  <a:pt x="10430" y="10984"/>
                  <a:pt x="10227" y="10895"/>
                  <a:pt x="10021" y="10914"/>
                </a:cubicBezTo>
                <a:cubicBezTo>
                  <a:pt x="10013" y="10914"/>
                  <a:pt x="10004" y="10914"/>
                  <a:pt x="9996" y="1091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10040" y="3983040"/>
            <a:ext cx="81000" cy="115920"/>
          </a:xfrm>
          <a:custGeom>
            <a:avLst/>
            <a:gdLst/>
            <a:ahLst/>
            <a:rect l="l" t="t" r="r" b="b"/>
            <a:pathLst>
              <a:path w="225" h="323">
                <a:moveTo>
                  <a:pt x="11137" y="11063"/>
                </a:moveTo>
                <a:cubicBezTo>
                  <a:pt x="11218" y="11184"/>
                  <a:pt x="11289" y="11364"/>
                  <a:pt x="11361" y="11336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30800" y="3884760"/>
            <a:ext cx="233280" cy="276120"/>
          </a:xfrm>
          <a:custGeom>
            <a:avLst/>
            <a:gdLst/>
            <a:ahLst/>
            <a:rect l="l" t="t" r="r" b="b"/>
            <a:pathLst>
              <a:path w="646" h="770">
                <a:moveTo>
                  <a:pt x="12105" y="10815"/>
                </a:moveTo>
                <a:cubicBezTo>
                  <a:pt x="12155" y="10798"/>
                  <a:pt x="12127" y="10792"/>
                  <a:pt x="12105" y="10889"/>
                </a:cubicBezTo>
                <a:cubicBezTo>
                  <a:pt x="12068" y="11051"/>
                  <a:pt x="12021" y="11199"/>
                  <a:pt x="12055" y="11361"/>
                </a:cubicBezTo>
                <a:cubicBezTo>
                  <a:pt x="12077" y="11467"/>
                  <a:pt x="12174" y="11540"/>
                  <a:pt x="12278" y="11559"/>
                </a:cubicBezTo>
                <a:cubicBezTo>
                  <a:pt x="12377" y="11577"/>
                  <a:pt x="12510" y="11505"/>
                  <a:pt x="12576" y="11435"/>
                </a:cubicBezTo>
                <a:cubicBezTo>
                  <a:pt x="12628" y="11379"/>
                  <a:pt x="12669" y="11313"/>
                  <a:pt x="12675" y="11237"/>
                </a:cubicBezTo>
                <a:cubicBezTo>
                  <a:pt x="12681" y="11154"/>
                  <a:pt x="12649" y="11193"/>
                  <a:pt x="12601" y="11162"/>
                </a:cubicBezTo>
                <a:cubicBezTo>
                  <a:pt x="12583" y="11151"/>
                  <a:pt x="12490" y="11070"/>
                  <a:pt x="12452" y="11112"/>
                </a:cubicBezTo>
                <a:cubicBezTo>
                  <a:pt x="12392" y="11178"/>
                  <a:pt x="12386" y="11329"/>
                  <a:pt x="12402" y="11410"/>
                </a:cubicBezTo>
                <a:cubicBezTo>
                  <a:pt x="12411" y="11453"/>
                  <a:pt x="12443" y="11490"/>
                  <a:pt x="12452" y="1153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86240" y="3867120"/>
            <a:ext cx="714600" cy="285840"/>
          </a:xfrm>
          <a:custGeom>
            <a:avLst/>
            <a:gdLst/>
            <a:ahLst/>
            <a:rect l="l" t="t" r="r" b="b"/>
            <a:pathLst>
              <a:path w="1986" h="795">
                <a:moveTo>
                  <a:pt x="14684" y="10914"/>
                </a:moveTo>
                <a:cubicBezTo>
                  <a:pt x="14734" y="10876"/>
                  <a:pt x="15035" y="10686"/>
                  <a:pt x="15056" y="10864"/>
                </a:cubicBezTo>
                <a:cubicBezTo>
                  <a:pt x="15002" y="10974"/>
                  <a:pt x="14976" y="11013"/>
                  <a:pt x="14883" y="11038"/>
                </a:cubicBezTo>
                <a:cubicBezTo>
                  <a:pt x="14938" y="11153"/>
                  <a:pt x="15142" y="11060"/>
                  <a:pt x="15131" y="11187"/>
                </a:cubicBezTo>
                <a:cubicBezTo>
                  <a:pt x="15109" y="11450"/>
                  <a:pt x="14850" y="11528"/>
                  <a:pt x="14734" y="11385"/>
                </a:cubicBezTo>
              </a:path>
              <a:path w="1986" h="795">
                <a:moveTo>
                  <a:pt x="15429" y="10740"/>
                </a:moveTo>
                <a:cubicBezTo>
                  <a:pt x="15475" y="10901"/>
                  <a:pt x="15419" y="11074"/>
                  <a:pt x="15453" y="11237"/>
                </a:cubicBezTo>
                <a:cubicBezTo>
                  <a:pt x="15492" y="11422"/>
                  <a:pt x="15711" y="11465"/>
                  <a:pt x="15850" y="11361"/>
                </a:cubicBezTo>
                <a:cubicBezTo>
                  <a:pt x="15920" y="11267"/>
                  <a:pt x="15944" y="11241"/>
                  <a:pt x="15949" y="11162"/>
                </a:cubicBezTo>
                <a:cubicBezTo>
                  <a:pt x="15810" y="11146"/>
                  <a:pt x="15732" y="11136"/>
                  <a:pt x="15652" y="11286"/>
                </a:cubicBezTo>
                <a:cubicBezTo>
                  <a:pt x="15552" y="11476"/>
                  <a:pt x="15669" y="11526"/>
                  <a:pt x="15801" y="11460"/>
                </a:cubicBezTo>
              </a:path>
              <a:path w="1986" h="795">
                <a:moveTo>
                  <a:pt x="16321" y="10815"/>
                </a:moveTo>
                <a:cubicBezTo>
                  <a:pt x="16244" y="10775"/>
                  <a:pt x="16192" y="10943"/>
                  <a:pt x="16173" y="11013"/>
                </a:cubicBezTo>
                <a:cubicBezTo>
                  <a:pt x="16134" y="11158"/>
                  <a:pt x="16170" y="11493"/>
                  <a:pt x="16396" y="11460"/>
                </a:cubicBezTo>
                <a:cubicBezTo>
                  <a:pt x="16568" y="11435"/>
                  <a:pt x="16764" y="11167"/>
                  <a:pt x="16619" y="11013"/>
                </a:cubicBezTo>
                <a:cubicBezTo>
                  <a:pt x="16543" y="10932"/>
                  <a:pt x="16414" y="10867"/>
                  <a:pt x="16321" y="10914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670800" y="3875040"/>
            <a:ext cx="411120" cy="527040"/>
          </a:xfrm>
          <a:custGeom>
            <a:avLst/>
            <a:gdLst/>
            <a:ahLst/>
            <a:rect l="l" t="t" r="r" b="b"/>
            <a:pathLst>
              <a:path w="1142" h="1465">
                <a:moveTo>
                  <a:pt x="18529" y="11063"/>
                </a:moveTo>
                <a:cubicBezTo>
                  <a:pt x="18554" y="11156"/>
                  <a:pt x="18549" y="11207"/>
                  <a:pt x="18604" y="11286"/>
                </a:cubicBezTo>
                <a:cubicBezTo>
                  <a:pt x="18774" y="11530"/>
                  <a:pt x="18932" y="11373"/>
                  <a:pt x="18901" y="11137"/>
                </a:cubicBezTo>
                <a:cubicBezTo>
                  <a:pt x="18885" y="11087"/>
                  <a:pt x="18868" y="11038"/>
                  <a:pt x="18852" y="10988"/>
                </a:cubicBezTo>
                <a:cubicBezTo>
                  <a:pt x="19003" y="11260"/>
                  <a:pt x="19222" y="11547"/>
                  <a:pt x="19149" y="11881"/>
                </a:cubicBezTo>
                <a:cubicBezTo>
                  <a:pt x="19091" y="12147"/>
                  <a:pt x="18934" y="12186"/>
                  <a:pt x="18728" y="12229"/>
                </a:cubicBezTo>
                <a:cubicBezTo>
                  <a:pt x="18693" y="11907"/>
                  <a:pt x="18816" y="11689"/>
                  <a:pt x="18951" y="11385"/>
                </a:cubicBezTo>
                <a:cubicBezTo>
                  <a:pt x="19038" y="11188"/>
                  <a:pt x="19062" y="11142"/>
                  <a:pt x="19100" y="11013"/>
                </a:cubicBezTo>
                <a:cubicBezTo>
                  <a:pt x="19144" y="10922"/>
                  <a:pt x="19073" y="10974"/>
                  <a:pt x="19075" y="11038"/>
                </a:cubicBezTo>
                <a:cubicBezTo>
                  <a:pt x="19086" y="11319"/>
                  <a:pt x="19315" y="11120"/>
                  <a:pt x="19397" y="11038"/>
                </a:cubicBezTo>
              </a:path>
              <a:path w="1142" h="1465">
                <a:moveTo>
                  <a:pt x="19472" y="10765"/>
                </a:moveTo>
                <a:cubicBezTo>
                  <a:pt x="19417" y="10894"/>
                  <a:pt x="19564" y="10894"/>
                  <a:pt x="19670" y="10939"/>
                </a:cubicBezTo>
                <a:cubicBezTo>
                  <a:pt x="19670" y="10964"/>
                  <a:pt x="19670" y="10988"/>
                  <a:pt x="19670" y="11013"/>
                </a:cubicBezTo>
                <a:cubicBezTo>
                  <a:pt x="19597" y="11058"/>
                  <a:pt x="19442" y="11112"/>
                  <a:pt x="19447" y="11112"/>
                </a:cubicBezTo>
                <a:cubicBezTo>
                  <a:pt x="19531" y="11112"/>
                  <a:pt x="19565" y="11110"/>
                  <a:pt x="19621" y="11088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296120" y="3652920"/>
            <a:ext cx="231840" cy="258840"/>
          </a:xfrm>
          <a:custGeom>
            <a:avLst/>
            <a:gdLst/>
            <a:ahLst/>
            <a:rect l="l" t="t" r="r" b="b"/>
            <a:pathLst>
              <a:path w="646" h="720">
                <a:moveTo>
                  <a:pt x="20265" y="10244"/>
                </a:moveTo>
                <a:cubicBezTo>
                  <a:pt x="20297" y="10435"/>
                  <a:pt x="20369" y="10632"/>
                  <a:pt x="20439" y="10815"/>
                </a:cubicBezTo>
                <a:cubicBezTo>
                  <a:pt x="20464" y="10864"/>
                  <a:pt x="20472" y="10880"/>
                  <a:pt x="20489" y="10815"/>
                </a:cubicBezTo>
              </a:path>
              <a:path w="646" h="720">
                <a:moveTo>
                  <a:pt x="20662" y="10145"/>
                </a:moveTo>
                <a:cubicBezTo>
                  <a:pt x="20753" y="10341"/>
                  <a:pt x="20788" y="10539"/>
                  <a:pt x="20861" y="10740"/>
                </a:cubicBezTo>
                <a:cubicBezTo>
                  <a:pt x="20877" y="10773"/>
                  <a:pt x="20894" y="10807"/>
                  <a:pt x="20910" y="10840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5200" y="3990960"/>
            <a:ext cx="7412040" cy="2340000"/>
          </a:xfrm>
          <a:custGeom>
            <a:avLst/>
            <a:gdLst/>
            <a:ahLst/>
            <a:rect l="l" t="t" r="r" b="b"/>
            <a:pathLst>
              <a:path w="20588" h="6500">
                <a:moveTo>
                  <a:pt x="20712" y="11212"/>
                </a:moveTo>
                <a:cubicBezTo>
                  <a:pt x="20712" y="11240"/>
                  <a:pt x="20714" y="11251"/>
                  <a:pt x="20737" y="11261"/>
                </a:cubicBezTo>
              </a:path>
              <a:path w="20588" h="6500">
                <a:moveTo>
                  <a:pt x="21059" y="11088"/>
                </a:moveTo>
                <a:cubicBezTo>
                  <a:pt x="21082" y="11088"/>
                  <a:pt x="21103" y="11136"/>
                  <a:pt x="21134" y="11162"/>
                </a:cubicBezTo>
              </a:path>
              <a:path w="20588" h="6500">
                <a:moveTo>
                  <a:pt x="20762" y="11683"/>
                </a:moveTo>
                <a:cubicBezTo>
                  <a:pt x="20916" y="11796"/>
                  <a:pt x="21082" y="11835"/>
                  <a:pt x="21258" y="11708"/>
                </a:cubicBezTo>
                <a:cubicBezTo>
                  <a:pt x="21352" y="11591"/>
                  <a:pt x="21382" y="11557"/>
                  <a:pt x="21406" y="11460"/>
                </a:cubicBezTo>
              </a:path>
              <a:path w="20588" h="6500">
                <a:moveTo>
                  <a:pt x="819" y="17562"/>
                </a:moveTo>
                <a:cubicBezTo>
                  <a:pt x="819" y="17587"/>
                  <a:pt x="819" y="17595"/>
                  <a:pt x="843" y="17587"/>
                </a:cubicBezTo>
              </a:path>
            </a:pathLst>
          </a:custGeom>
          <a:noFill/>
          <a:ln cap="rnd" w="3492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Verdana"/>
              </a:rPr>
              <a:t>Extensions:</a:t>
            </a: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lvl="1" marL="735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lvl="1" marL="735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6c0ce"/>
                </a:solidFill>
                <a:uFillTx/>
                <a:latin typeface="Verdana"/>
                <a:hlinkClick r:id="rId1"/>
              </a:rPr>
              <a:t>Animated Math @ </a:t>
            </a:r>
            <a:r>
              <a:rPr b="0" lang="en-US" sz="3200" spc="-1" strike="noStrike" u="sng">
                <a:solidFill>
                  <a:srgbClr val="86c0ce"/>
                </a:solidFill>
                <a:uFillTx/>
                <a:latin typeface="Verdana"/>
                <a:hlinkClick r:id="rId2"/>
              </a:rPr>
              <a:t>Classzone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35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(</a:t>
            </a: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Chapter 4: Decimal Product/Quotient Estimation)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35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35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6c0ce"/>
                </a:solidFill>
                <a:uFillTx/>
                <a:latin typeface="Verdana"/>
                <a:hlinkClick r:id="rId3"/>
              </a:rPr>
              <a:t>Whole Number Estimation Practic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35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35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6c0ce"/>
                </a:solidFill>
                <a:uFillTx/>
                <a:latin typeface="Verdana"/>
                <a:hlinkClick r:id="rId4"/>
              </a:rPr>
              <a:t>Brainpop</a:t>
            </a:r>
            <a:r>
              <a:rPr b="0" lang="en-US" sz="3200" spc="-1" strike="noStrike" u="sng">
                <a:solidFill>
                  <a:srgbClr val="86c0ce"/>
                </a:solidFill>
                <a:uFillTx/>
                <a:latin typeface="Verdana"/>
                <a:hlinkClick r:id="rId5"/>
              </a:rPr>
              <a:t> on Estimating (Concept)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1ddd4"/>
                </a:solidFill>
                <a:latin typeface="Arial"/>
              </a:rPr>
              <a:t>Homework:</a:t>
            </a: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Estimating Products &amp; Quotients Worksheet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1-11-10T20:23:56Z</dcterms:modified>
  <cp:revision>23</cp:revision>
  <dc:subject/>
  <dc:title>Unit 1 – Variables and Equations </dc:title>
</cp:coreProperties>
</file>